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554-E9A9-4B7A-8EB8-592E3748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EFB-B0E3-4F99-8035-7EB34F16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356-A8E1-4946-818B-512BB083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E64-699C-4CB7-B28C-2C2E8FE7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1F95-AC5B-46EC-A36F-BA3C29EB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2C6E-301E-42D5-99EB-FF90EE43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C71E-5AAB-4581-A588-3C551D9D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E2B0-4D81-4D29-A93D-1848E9C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1BE8-EAD2-464F-A09C-21ADAE8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F571-AFB9-49E9-97C9-4F5A3A0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C0CB-CC09-4CA8-AAC2-2F69041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441-008C-4623-ABD1-33A0CEF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D342-8345-4735-B0D8-A65F7D1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1A04-2435-4DC7-AE85-80456607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F296-47BF-487E-BF2C-5AA71EE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740D-059D-407E-83BF-38BCE772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3AC6-15B1-45F9-AAD6-0800117C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41A-3042-4ACA-98CA-F82EE0C4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61F-0D08-4693-9D82-FEAB8989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A45-D168-4872-8E1E-C2D3EF9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3CD-360C-46F9-9AF6-1DD8ED0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9ED-05D7-4E05-BFB7-4A9891F8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079-D7C0-4071-B795-1E07E38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3A8-EF9A-4A70-BCE0-047C7DF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AF1A-361F-4B52-A54E-462990064C2E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0627-7B09-41D9-899F-F29E2B3F81DF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速成輸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簡介速成輸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209680"/>
            <a:ext cx="6553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660000"/>
                </a:solidFill>
                <a:latin typeface="Arial"/>
                <a:ea typeface="標楷體"/>
              </a:rPr>
              <a:t>速成輸入法又名簡易輸入法，同是使用倉頡輸入法中的基本字根編碼，但它只需輸入倉頡碼的首尾字碼，故比較倉頡輸入法容易找取所屬的字形倉頡碼。但由於許多漢字均有相同的首尾碼，故需在輸入倉頡碼後，從選字表中選取所需漢字。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660000"/>
                </a:solidFill>
                <a:latin typeface="Arial"/>
                <a:ea typeface="標楷體"/>
              </a:rPr>
              <a:t>由於速成輸入法需在選字表中找尋所需漢字，令其輸入的速度大幅降低。但依然有它的存在價值，因為速成輸入法並不難學，只需要懂得倉頡輸入法的倉頡字母、輔助字形和部份原則，已經可以輸入極大部份的漢字，所以速成輸入法對一群不需時常輸入漢字的用家顯得十分重要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倉頡字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72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8080"/>
                </a:solidFill>
                <a:latin typeface="標楷體"/>
                <a:ea typeface="標楷體"/>
              </a:rPr>
              <a:t>倉頡字母可分為下列四大類別：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哲理類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筆劃類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人身類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字型類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哲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09680" y="1981080"/>
            <a:ext cx="1744920" cy="631800"/>
            <a:chOff x="2209680" y="1981080"/>
            <a:chExt cx="1744920" cy="631800"/>
          </a:xfrm>
        </p:grpSpPr>
        <p:pic>
          <p:nvPicPr>
            <p:cNvPr id="111" name="a" descr=""/>
            <p:cNvPicPr/>
            <p:nvPr/>
          </p:nvPicPr>
          <p:blipFill>
            <a:blip r:embed="rId1"/>
            <a:stretch/>
          </p:blipFill>
          <p:spPr>
            <a:xfrm>
              <a:off x="2209680" y="1981080"/>
              <a:ext cx="50652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日" descr=""/>
            <p:cNvPicPr/>
            <p:nvPr/>
          </p:nvPicPr>
          <p:blipFill>
            <a:blip r:embed="rId2"/>
            <a:stretch/>
          </p:blipFill>
          <p:spPr>
            <a:xfrm>
              <a:off x="2871720" y="2050920"/>
              <a:ext cx="108288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2871720" y="2612880"/>
            <a:ext cx="1811520" cy="630360"/>
            <a:chOff x="2871720" y="2612880"/>
            <a:chExt cx="1811520" cy="630360"/>
          </a:xfrm>
        </p:grpSpPr>
        <p:pic>
          <p:nvPicPr>
            <p:cNvPr id="114" name="b" descr=""/>
            <p:cNvPicPr/>
            <p:nvPr/>
          </p:nvPicPr>
          <p:blipFill>
            <a:blip r:embed="rId3"/>
            <a:stretch/>
          </p:blipFill>
          <p:spPr>
            <a:xfrm>
              <a:off x="2871720" y="2612880"/>
              <a:ext cx="50652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月" descr=""/>
            <p:cNvPicPr/>
            <p:nvPr/>
          </p:nvPicPr>
          <p:blipFill>
            <a:blip r:embed="rId4"/>
            <a:stretch/>
          </p:blipFill>
          <p:spPr>
            <a:xfrm>
              <a:off x="3600360" y="2682720"/>
              <a:ext cx="108288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130640" y="3805200"/>
            <a:ext cx="1811520" cy="631800"/>
            <a:chOff x="4130640" y="3805200"/>
            <a:chExt cx="1811520" cy="631800"/>
          </a:xfrm>
        </p:grpSpPr>
        <p:pic>
          <p:nvPicPr>
            <p:cNvPr id="117" name="d" descr=""/>
            <p:cNvPicPr/>
            <p:nvPr/>
          </p:nvPicPr>
          <p:blipFill>
            <a:blip r:embed="rId5"/>
            <a:stretch/>
          </p:blipFill>
          <p:spPr>
            <a:xfrm>
              <a:off x="4130640" y="3805200"/>
              <a:ext cx="50652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木" descr=""/>
            <p:cNvPicPr/>
            <p:nvPr/>
          </p:nvPicPr>
          <p:blipFill>
            <a:blip r:embed="rId6"/>
            <a:stretch/>
          </p:blipFill>
          <p:spPr>
            <a:xfrm>
              <a:off x="4859280" y="3875040"/>
              <a:ext cx="108288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4726080" y="4437000"/>
            <a:ext cx="1744560" cy="630360"/>
            <a:chOff x="4726080" y="4437000"/>
            <a:chExt cx="1744560" cy="630360"/>
          </a:xfrm>
        </p:grpSpPr>
        <p:pic>
          <p:nvPicPr>
            <p:cNvPr id="120" name="e" descr=""/>
            <p:cNvPicPr/>
            <p:nvPr/>
          </p:nvPicPr>
          <p:blipFill>
            <a:blip r:embed="rId7"/>
            <a:stretch/>
          </p:blipFill>
          <p:spPr>
            <a:xfrm>
              <a:off x="4726080" y="4437000"/>
              <a:ext cx="5061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水" descr=""/>
            <p:cNvPicPr/>
            <p:nvPr/>
          </p:nvPicPr>
          <p:blipFill>
            <a:blip r:embed="rId8"/>
            <a:stretch/>
          </p:blipFill>
          <p:spPr>
            <a:xfrm>
              <a:off x="5388120" y="4533840"/>
              <a:ext cx="108252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5388120" y="5138640"/>
            <a:ext cx="1746000" cy="630360"/>
            <a:chOff x="5388120" y="5138640"/>
            <a:chExt cx="1746000" cy="630360"/>
          </a:xfrm>
        </p:grpSpPr>
        <p:pic>
          <p:nvPicPr>
            <p:cNvPr id="123" name="f" descr=""/>
            <p:cNvPicPr/>
            <p:nvPr/>
          </p:nvPicPr>
          <p:blipFill>
            <a:blip r:embed="rId9"/>
            <a:stretch/>
          </p:blipFill>
          <p:spPr>
            <a:xfrm>
              <a:off x="5388120" y="5138640"/>
              <a:ext cx="50616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火" descr=""/>
            <p:cNvPicPr/>
            <p:nvPr/>
          </p:nvPicPr>
          <p:blipFill>
            <a:blip r:embed="rId10"/>
            <a:stretch/>
          </p:blipFill>
          <p:spPr>
            <a:xfrm>
              <a:off x="6049800" y="5235480"/>
              <a:ext cx="108432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6006960" y="5769000"/>
            <a:ext cx="1765440" cy="631800"/>
            <a:chOff x="6006960" y="5769000"/>
            <a:chExt cx="1765440" cy="631800"/>
          </a:xfrm>
        </p:grpSpPr>
        <p:pic>
          <p:nvPicPr>
            <p:cNvPr id="126" name="g" descr=""/>
            <p:cNvPicPr/>
            <p:nvPr/>
          </p:nvPicPr>
          <p:blipFill>
            <a:blip r:embed="rId11"/>
            <a:stretch/>
          </p:blipFill>
          <p:spPr>
            <a:xfrm>
              <a:off x="6006960" y="5769000"/>
              <a:ext cx="50652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土" descr=""/>
            <p:cNvPicPr/>
            <p:nvPr/>
          </p:nvPicPr>
          <p:blipFill>
            <a:blip r:embed="rId12"/>
            <a:stretch/>
          </p:blipFill>
          <p:spPr>
            <a:xfrm>
              <a:off x="6689880" y="5838840"/>
              <a:ext cx="108252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3533760" y="3243240"/>
            <a:ext cx="1811520" cy="631800"/>
            <a:chOff x="3533760" y="3243240"/>
            <a:chExt cx="1811520" cy="631800"/>
          </a:xfrm>
        </p:grpSpPr>
        <p:pic>
          <p:nvPicPr>
            <p:cNvPr id="129" name="金" descr=""/>
            <p:cNvPicPr/>
            <p:nvPr/>
          </p:nvPicPr>
          <p:blipFill>
            <a:blip r:embed="rId13"/>
            <a:stretch/>
          </p:blipFill>
          <p:spPr>
            <a:xfrm>
              <a:off x="4262400" y="3314880"/>
              <a:ext cx="108288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c" descr=""/>
            <p:cNvPicPr/>
            <p:nvPr/>
          </p:nvPicPr>
          <p:blipFill>
            <a:blip r:embed="rId14"/>
            <a:stretch/>
          </p:blipFill>
          <p:spPr>
            <a:xfrm>
              <a:off x="3533760" y="3243240"/>
              <a:ext cx="506520" cy="6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筆劃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09680" y="2057400"/>
            <a:ext cx="1792440" cy="576360"/>
            <a:chOff x="2209680" y="2057400"/>
            <a:chExt cx="1792440" cy="576360"/>
          </a:xfrm>
        </p:grpSpPr>
        <p:pic>
          <p:nvPicPr>
            <p:cNvPr id="134" name="h" descr=""/>
            <p:cNvPicPr/>
            <p:nvPr/>
          </p:nvPicPr>
          <p:blipFill>
            <a:blip r:embed="rId1"/>
            <a:stretch/>
          </p:blipFill>
          <p:spPr>
            <a:xfrm>
              <a:off x="2209680" y="2057400"/>
              <a:ext cx="5270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竹" descr=""/>
            <p:cNvPicPr/>
            <p:nvPr/>
          </p:nvPicPr>
          <p:blipFill>
            <a:blip r:embed="rId2"/>
            <a:stretch/>
          </p:blipFill>
          <p:spPr>
            <a:xfrm>
              <a:off x="2874960" y="2120760"/>
              <a:ext cx="112716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943360" y="2633760"/>
            <a:ext cx="1815840" cy="577800"/>
            <a:chOff x="2943360" y="2633760"/>
            <a:chExt cx="1815840" cy="577800"/>
          </a:xfrm>
        </p:grpSpPr>
        <p:pic>
          <p:nvPicPr>
            <p:cNvPr id="137" name="i" descr=""/>
            <p:cNvPicPr/>
            <p:nvPr/>
          </p:nvPicPr>
          <p:blipFill>
            <a:blip r:embed="rId3"/>
            <a:stretch/>
          </p:blipFill>
          <p:spPr>
            <a:xfrm>
              <a:off x="2943360" y="2633760"/>
              <a:ext cx="5270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戈" descr=""/>
            <p:cNvPicPr/>
            <p:nvPr/>
          </p:nvPicPr>
          <p:blipFill>
            <a:blip r:embed="rId4"/>
            <a:stretch/>
          </p:blipFill>
          <p:spPr>
            <a:xfrm>
              <a:off x="3632040" y="2698920"/>
              <a:ext cx="11271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3564000" y="3274920"/>
            <a:ext cx="1860480" cy="577800"/>
            <a:chOff x="3564000" y="3274920"/>
            <a:chExt cx="1860480" cy="577800"/>
          </a:xfrm>
        </p:grpSpPr>
        <p:pic>
          <p:nvPicPr>
            <p:cNvPr id="140" name="j" descr=""/>
            <p:cNvPicPr/>
            <p:nvPr/>
          </p:nvPicPr>
          <p:blipFill>
            <a:blip r:embed="rId5"/>
            <a:stretch/>
          </p:blipFill>
          <p:spPr>
            <a:xfrm>
              <a:off x="3564000" y="3274920"/>
              <a:ext cx="5270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十" descr=""/>
            <p:cNvPicPr/>
            <p:nvPr/>
          </p:nvPicPr>
          <p:blipFill>
            <a:blip r:embed="rId6"/>
            <a:stretch/>
          </p:blipFill>
          <p:spPr>
            <a:xfrm>
              <a:off x="4297320" y="3274920"/>
              <a:ext cx="112716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253040" y="3787920"/>
            <a:ext cx="1815840" cy="577800"/>
            <a:chOff x="4253040" y="3787920"/>
            <a:chExt cx="1815840" cy="577800"/>
          </a:xfrm>
        </p:grpSpPr>
        <p:pic>
          <p:nvPicPr>
            <p:cNvPr id="143" name="k" descr=""/>
            <p:cNvPicPr/>
            <p:nvPr/>
          </p:nvPicPr>
          <p:blipFill>
            <a:blip r:embed="rId7"/>
            <a:stretch/>
          </p:blipFill>
          <p:spPr>
            <a:xfrm>
              <a:off x="4253040" y="3787920"/>
              <a:ext cx="5270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大" descr=""/>
            <p:cNvPicPr/>
            <p:nvPr/>
          </p:nvPicPr>
          <p:blipFill>
            <a:blip r:embed="rId8"/>
            <a:stretch/>
          </p:blipFill>
          <p:spPr>
            <a:xfrm>
              <a:off x="4941720" y="3852720"/>
              <a:ext cx="11271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897440" y="4365720"/>
            <a:ext cx="1836720" cy="576000"/>
            <a:chOff x="4897440" y="4365720"/>
            <a:chExt cx="1836720" cy="576000"/>
          </a:xfrm>
        </p:grpSpPr>
        <p:pic>
          <p:nvPicPr>
            <p:cNvPr id="146" name="l" descr=""/>
            <p:cNvPicPr/>
            <p:nvPr/>
          </p:nvPicPr>
          <p:blipFill>
            <a:blip r:embed="rId9"/>
            <a:stretch/>
          </p:blipFill>
          <p:spPr>
            <a:xfrm>
              <a:off x="4897440" y="4365720"/>
              <a:ext cx="5270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中" descr=""/>
            <p:cNvPicPr/>
            <p:nvPr/>
          </p:nvPicPr>
          <p:blipFill>
            <a:blip r:embed="rId10"/>
            <a:stretch/>
          </p:blipFill>
          <p:spPr>
            <a:xfrm>
              <a:off x="5607000" y="4454640"/>
              <a:ext cx="1127160" cy="42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5518080" y="4941720"/>
            <a:ext cx="1860480" cy="578160"/>
            <a:chOff x="5518080" y="4941720"/>
            <a:chExt cx="1860480" cy="578160"/>
          </a:xfrm>
        </p:grpSpPr>
        <p:pic>
          <p:nvPicPr>
            <p:cNvPr id="149" name="m" descr=""/>
            <p:cNvPicPr/>
            <p:nvPr/>
          </p:nvPicPr>
          <p:blipFill>
            <a:blip r:embed="rId11"/>
            <a:stretch/>
          </p:blipFill>
          <p:spPr>
            <a:xfrm>
              <a:off x="5518080" y="4941720"/>
              <a:ext cx="52704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一" descr=""/>
            <p:cNvPicPr/>
            <p:nvPr/>
          </p:nvPicPr>
          <p:blipFill>
            <a:blip r:embed="rId12"/>
            <a:stretch/>
          </p:blipFill>
          <p:spPr>
            <a:xfrm>
              <a:off x="6251400" y="5006880"/>
              <a:ext cx="11271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6207120" y="5519880"/>
            <a:ext cx="1766880" cy="576000"/>
            <a:chOff x="6207120" y="5519880"/>
            <a:chExt cx="1766880" cy="576000"/>
          </a:xfrm>
        </p:grpSpPr>
        <p:pic>
          <p:nvPicPr>
            <p:cNvPr id="152" name="n" descr=""/>
            <p:cNvPicPr/>
            <p:nvPr/>
          </p:nvPicPr>
          <p:blipFill>
            <a:blip r:embed="rId13"/>
            <a:stretch/>
          </p:blipFill>
          <p:spPr>
            <a:xfrm>
              <a:off x="6207120" y="5519880"/>
              <a:ext cx="5270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弓" descr=""/>
            <p:cNvPicPr/>
            <p:nvPr/>
          </p:nvPicPr>
          <p:blipFill>
            <a:blip r:embed="rId14"/>
            <a:stretch/>
          </p:blipFill>
          <p:spPr>
            <a:xfrm>
              <a:off x="6846840" y="5583240"/>
              <a:ext cx="1127160" cy="4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人身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24080" y="2057400"/>
            <a:ext cx="1739880" cy="611280"/>
            <a:chOff x="3124080" y="2057400"/>
            <a:chExt cx="1739880" cy="611280"/>
          </a:xfrm>
        </p:grpSpPr>
        <p:pic>
          <p:nvPicPr>
            <p:cNvPr id="157" name="o" descr=""/>
            <p:cNvPicPr/>
            <p:nvPr/>
          </p:nvPicPr>
          <p:blipFill>
            <a:blip r:embed="rId1"/>
            <a:stretch/>
          </p:blipFill>
          <p:spPr>
            <a:xfrm>
              <a:off x="3124080" y="2057400"/>
              <a:ext cx="49212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人" descr=""/>
            <p:cNvPicPr/>
            <p:nvPr/>
          </p:nvPicPr>
          <p:blipFill>
            <a:blip r:embed="rId2"/>
            <a:stretch/>
          </p:blipFill>
          <p:spPr>
            <a:xfrm>
              <a:off x="3809880" y="2125800"/>
              <a:ext cx="1054080" cy="44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3897360" y="2871720"/>
            <a:ext cx="1717560" cy="611280"/>
            <a:chOff x="3897360" y="2871720"/>
            <a:chExt cx="1717560" cy="611280"/>
          </a:xfrm>
        </p:grpSpPr>
        <p:pic>
          <p:nvPicPr>
            <p:cNvPr id="160" name="p" descr=""/>
            <p:cNvPicPr/>
            <p:nvPr/>
          </p:nvPicPr>
          <p:blipFill>
            <a:blip r:embed="rId3"/>
            <a:stretch/>
          </p:blipFill>
          <p:spPr>
            <a:xfrm>
              <a:off x="3897360" y="2871720"/>
              <a:ext cx="4935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心" descr=""/>
            <p:cNvPicPr/>
            <p:nvPr/>
          </p:nvPicPr>
          <p:blipFill>
            <a:blip r:embed="rId4"/>
            <a:stretch/>
          </p:blipFill>
          <p:spPr>
            <a:xfrm>
              <a:off x="4560840" y="2940120"/>
              <a:ext cx="1054080" cy="44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4648320" y="3619440"/>
            <a:ext cx="1741320" cy="611280"/>
            <a:chOff x="4648320" y="3619440"/>
            <a:chExt cx="1741320" cy="611280"/>
          </a:xfrm>
        </p:grpSpPr>
        <p:pic>
          <p:nvPicPr>
            <p:cNvPr id="163" name="q" descr=""/>
            <p:cNvPicPr/>
            <p:nvPr/>
          </p:nvPicPr>
          <p:blipFill>
            <a:blip r:embed="rId5"/>
            <a:stretch/>
          </p:blipFill>
          <p:spPr>
            <a:xfrm>
              <a:off x="4648320" y="3619440"/>
              <a:ext cx="4935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手" descr=""/>
            <p:cNvPicPr/>
            <p:nvPr/>
          </p:nvPicPr>
          <p:blipFill>
            <a:blip r:embed="rId6"/>
            <a:stretch/>
          </p:blipFill>
          <p:spPr>
            <a:xfrm>
              <a:off x="5335560" y="3687840"/>
              <a:ext cx="1054080" cy="44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5423040" y="4570560"/>
            <a:ext cx="1739880" cy="610920"/>
            <a:chOff x="5423040" y="4570560"/>
            <a:chExt cx="1739880" cy="610920"/>
          </a:xfrm>
        </p:grpSpPr>
        <p:pic>
          <p:nvPicPr>
            <p:cNvPr id="166" name="r" descr=""/>
            <p:cNvPicPr/>
            <p:nvPr/>
          </p:nvPicPr>
          <p:blipFill>
            <a:blip r:embed="rId7"/>
            <a:stretch/>
          </p:blipFill>
          <p:spPr>
            <a:xfrm>
              <a:off x="5423040" y="4570560"/>
              <a:ext cx="49212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口" descr=""/>
            <p:cNvPicPr/>
            <p:nvPr/>
          </p:nvPicPr>
          <p:blipFill>
            <a:blip r:embed="rId8"/>
            <a:stretch/>
          </p:blipFill>
          <p:spPr>
            <a:xfrm>
              <a:off x="6108840" y="4638600"/>
              <a:ext cx="105408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字型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133720" y="1828800"/>
            <a:ext cx="1736640" cy="590400"/>
            <a:chOff x="2133720" y="1828800"/>
            <a:chExt cx="1736640" cy="590400"/>
          </a:xfrm>
        </p:grpSpPr>
        <p:pic>
          <p:nvPicPr>
            <p:cNvPr id="171" name="s" descr=""/>
            <p:cNvPicPr/>
            <p:nvPr/>
          </p:nvPicPr>
          <p:blipFill>
            <a:blip r:embed="rId1"/>
            <a:stretch/>
          </p:blipFill>
          <p:spPr>
            <a:xfrm>
              <a:off x="2133720" y="1828800"/>
              <a:ext cx="49212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尸" descr=""/>
            <p:cNvPicPr/>
            <p:nvPr/>
          </p:nvPicPr>
          <p:blipFill>
            <a:blip r:embed="rId2"/>
            <a:stretch/>
          </p:blipFill>
          <p:spPr>
            <a:xfrm>
              <a:off x="2817720" y="1920960"/>
              <a:ext cx="105264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2971800" y="2550960"/>
            <a:ext cx="1671120" cy="590760"/>
            <a:chOff x="2971800" y="2550960"/>
            <a:chExt cx="1671120" cy="590760"/>
          </a:xfrm>
        </p:grpSpPr>
        <p:pic>
          <p:nvPicPr>
            <p:cNvPr id="174" name="t" descr=""/>
            <p:cNvPicPr/>
            <p:nvPr/>
          </p:nvPicPr>
          <p:blipFill>
            <a:blip r:embed="rId3"/>
            <a:stretch/>
          </p:blipFill>
          <p:spPr>
            <a:xfrm>
              <a:off x="2971800" y="2550960"/>
              <a:ext cx="49176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廿" descr=""/>
            <p:cNvPicPr/>
            <p:nvPr/>
          </p:nvPicPr>
          <p:blipFill>
            <a:blip r:embed="rId4"/>
            <a:stretch/>
          </p:blipFill>
          <p:spPr>
            <a:xfrm>
              <a:off x="3592440" y="2576520"/>
              <a:ext cx="105048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3773520" y="3206880"/>
            <a:ext cx="1712880" cy="591840"/>
            <a:chOff x="3773520" y="3206880"/>
            <a:chExt cx="1712880" cy="591840"/>
          </a:xfrm>
        </p:grpSpPr>
        <p:pic>
          <p:nvPicPr>
            <p:cNvPr id="177" name="u" descr=""/>
            <p:cNvPicPr/>
            <p:nvPr/>
          </p:nvPicPr>
          <p:blipFill>
            <a:blip r:embed="rId5"/>
            <a:stretch/>
          </p:blipFill>
          <p:spPr>
            <a:xfrm>
              <a:off x="3773520" y="3206880"/>
              <a:ext cx="490680" cy="5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山" descr=""/>
            <p:cNvPicPr/>
            <p:nvPr/>
          </p:nvPicPr>
          <p:blipFill>
            <a:blip r:embed="rId6"/>
            <a:stretch/>
          </p:blipFill>
          <p:spPr>
            <a:xfrm>
              <a:off x="4435560" y="3298680"/>
              <a:ext cx="105084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664160" y="3995640"/>
            <a:ext cx="1736640" cy="590760"/>
            <a:chOff x="4664160" y="3995640"/>
            <a:chExt cx="1736640" cy="590760"/>
          </a:xfrm>
        </p:grpSpPr>
        <p:pic>
          <p:nvPicPr>
            <p:cNvPr id="180" name="v" descr=""/>
            <p:cNvPicPr/>
            <p:nvPr/>
          </p:nvPicPr>
          <p:blipFill>
            <a:blip r:embed="rId7"/>
            <a:stretch/>
          </p:blipFill>
          <p:spPr>
            <a:xfrm>
              <a:off x="4664160" y="3995640"/>
              <a:ext cx="49212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女" descr=""/>
            <p:cNvPicPr/>
            <p:nvPr/>
          </p:nvPicPr>
          <p:blipFill>
            <a:blip r:embed="rId8"/>
            <a:stretch/>
          </p:blipFill>
          <p:spPr>
            <a:xfrm>
              <a:off x="5349960" y="4086360"/>
              <a:ext cx="1050840" cy="43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5511960" y="4782960"/>
            <a:ext cx="1650960" cy="590760"/>
            <a:chOff x="5511960" y="4782960"/>
            <a:chExt cx="1650960" cy="590760"/>
          </a:xfrm>
        </p:grpSpPr>
        <p:pic>
          <p:nvPicPr>
            <p:cNvPr id="183" name="w" descr=""/>
            <p:cNvPicPr/>
            <p:nvPr/>
          </p:nvPicPr>
          <p:blipFill>
            <a:blip r:embed="rId9"/>
            <a:stretch/>
          </p:blipFill>
          <p:spPr>
            <a:xfrm>
              <a:off x="5511960" y="4782960"/>
              <a:ext cx="49212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田" descr=""/>
            <p:cNvPicPr/>
            <p:nvPr/>
          </p:nvPicPr>
          <p:blipFill>
            <a:blip r:embed="rId10"/>
            <a:stretch/>
          </p:blipFill>
          <p:spPr>
            <a:xfrm>
              <a:off x="6110280" y="4848120"/>
              <a:ext cx="105264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6275520" y="5486400"/>
            <a:ext cx="1648800" cy="590400"/>
            <a:chOff x="6275520" y="5486400"/>
            <a:chExt cx="1648800" cy="590400"/>
          </a:xfrm>
        </p:grpSpPr>
        <p:pic>
          <p:nvPicPr>
            <p:cNvPr id="186" name="y" descr=""/>
            <p:cNvPicPr/>
            <p:nvPr/>
          </p:nvPicPr>
          <p:blipFill>
            <a:blip r:embed="rId11"/>
            <a:stretch/>
          </p:blipFill>
          <p:spPr>
            <a:xfrm>
              <a:off x="6275520" y="5486400"/>
              <a:ext cx="491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卜" descr=""/>
            <p:cNvPicPr/>
            <p:nvPr/>
          </p:nvPicPr>
          <p:blipFill>
            <a:blip r:embed="rId12"/>
            <a:stretch/>
          </p:blipFill>
          <p:spPr>
            <a:xfrm>
              <a:off x="6872040" y="5578560"/>
              <a:ext cx="105228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990033"/>
                </a:solidFill>
                <a:latin typeface="標楷體"/>
                <a:ea typeface="標楷體"/>
              </a:rPr>
              <a:t> 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2-12-30T02:24:25Z</dcterms:modified>
  <cp:revision>152</cp:revision>
  <dc:subject/>
  <dc:title>簡介倉頡輸入法</dc:title>
</cp:coreProperties>
</file>