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0E8-9038-414C-A5B8-58CC7D55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15A-12BA-4316-96DF-DD8347F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294-1ED7-47E9-BAC1-2FFB075C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33F-EBA5-4BBB-B73D-B69FE3E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2AD3-DB1D-4D8B-BE60-8C8B0388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DB28-2387-425F-9BA9-B31AFB4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BAEE-0CCD-42F4-A45A-A49A8F7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A85-0BDA-40C9-A16C-65A9177D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B64-2842-4EBD-875D-6E4300D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84CF-C927-47A5-88BF-4D72C72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843C-8E1A-4CB9-B906-BB91D3C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A6C-EF0C-4088-A468-2FEA39F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9733-1015-41CD-9B1C-9D24D3E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259-C34B-4482-AA3B-A1EB153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CF3C-A8C9-4695-8293-CDC2EFD4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674-B95B-4B28-8217-621445C7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578A-36C9-4979-89A5-5B9AE81D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7F8-E093-42C2-95BA-09382673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54D-173F-4D91-906C-1D40609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DC4-0C2D-44EC-B1B2-DD6A067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414-77DC-494D-A494-98531E8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F8D-49F6-425F-98CE-E5FE5C1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2C4-1AF8-4392-B34D-73C39A6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6D2-BA18-4FE0-B8DE-1E7443E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25AE-22B6-4F6E-9ED3-53B15A3997B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F050-5552-4E05-A023-59C6BDD64023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8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只學識倉頡字母和輔助字形，是沒有可能正確取得中文字的字碼。所以要學習以下幾個名詞定義和最基本的取碼概念。</a:t>
            </a:r>
            <a:r>
              <a:rPr b="0" lang="zh-TW" sz="2200" spc="-1" strike="noStrike">
                <a:solidFill>
                  <a:srgbClr val="660000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957400"/>
            <a:ext cx="2895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基本字形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取碼順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3" action="ppaction://hlinksldjump"/>
              </a:rPr>
              <a:t> 取碼步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中國字的基本字型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590920"/>
            <a:ext cx="556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形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3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4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a50021"/>
                </a:solidFill>
                <a:latin typeface="Arial"/>
                <a:ea typeface="標楷體"/>
              </a:rPr>
              <a:t>連體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752480"/>
          <a:ext cx="3621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752480"/>
                    <a:ext cx="362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4343400"/>
          <a:ext cx="3618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343400"/>
                    <a:ext cx="36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23623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鳥、車、亞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　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029200"/>
            <a:ext cx="3200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因、同、間、凶</a:t>
            </a:r>
            <a:r>
              <a:rPr b="0" lang="zh-TW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457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三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1371600"/>
          <a:ext cx="251460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71600"/>
                    <a:ext cx="2514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666880" y="3962520"/>
          <a:ext cx="22860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6252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01640" y="3200400"/>
            <a:ext cx="45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四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5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順序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4382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左至右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371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速成的取碼是根據中國字的基本字形，由左至右、由上至下、由外至內取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80988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上至下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2920" y="51814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外至內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未定標題1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43434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未定標題1" descr=""/>
          <p:cNvPicPr/>
          <p:nvPr/>
        </p:nvPicPr>
        <p:blipFill>
          <a:blip r:embed="rId3"/>
          <a:stretch/>
        </p:blipFill>
        <p:spPr>
          <a:xfrm>
            <a:off x="2209680" y="3962520"/>
            <a:ext cx="434340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未定標題1" descr=""/>
          <p:cNvPicPr/>
          <p:nvPr/>
        </p:nvPicPr>
        <p:blipFill>
          <a:blip r:embed="rId4"/>
          <a:stretch/>
        </p:blipFill>
        <p:spPr>
          <a:xfrm>
            <a:off x="2209680" y="5410080"/>
            <a:ext cx="4343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步驟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36232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00"/>
                </a:solidFill>
                <a:latin typeface="標楷體"/>
                <a:ea typeface="標楷體"/>
              </a:rPr>
              <a:t>速成輸入法的輸入步驟如下</a:t>
            </a:r>
            <a:r>
              <a:rPr b="0" lang="zh-TW" sz="1400" spc="-1" strike="noStrike">
                <a:solidFill>
                  <a:srgbClr val="660000"/>
                </a:solidFill>
                <a:latin typeface="標楷體"/>
                <a:ea typeface="標楷體"/>
              </a:rPr>
              <a:t>：</a:t>
            </a:r>
            <a:r>
              <a:rPr b="0" lang="zh-TW" sz="1100" spc="-1" strike="noStrike">
                <a:solidFill>
                  <a:srgbClr val="333333"/>
                </a:solidFill>
                <a:latin typeface="標楷體"/>
                <a:ea typeface="標楷體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鍵入所需要漢字的首、尾兩碼 ；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按鍵盤上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"spacebar"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；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若找到所需要漢字，按代表該字的數字鍵；</a:t>
            </a:r>
            <a:r>
              <a:rPr b="0" lang="zh-TW" sz="24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若找不到，再按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"spacebar"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，直至找到 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2-12-30T02:37:42Z</dcterms:modified>
  <cp:revision>157</cp:revision>
  <dc:subject/>
  <dc:title>簡介倉頡輸入法</dc:title>
</cp:coreProperties>
</file>