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1E1-735C-47C5-AD45-33AA8006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45A-7BE8-48C8-80BF-AADF7357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29C-AD30-43F6-A2E7-F8C9F8AD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2E7-8C3A-459B-AE83-455A892A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723D-BD4E-4199-AC36-C93C833A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7EA5-8D52-4F9C-B8C2-CF85EBD7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553F-1E51-4E53-BA37-F21995CB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C6E0-103B-4C20-B3F1-19C7E76C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CF47-78B4-4F09-AA44-70E71DE2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79A1-44D2-450F-B2C6-C6CF15E3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C920-F851-42DA-A055-1C69152E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160-027B-4164-B421-0717F088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99B2-90FA-484C-83FE-D1046D77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D90A-C568-46D3-8E43-8D0F0B8D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84A8-91B9-4312-A375-A5F87290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B463-6CD1-44EF-AC8B-C95CB368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E762-4A09-46AB-B7BD-6B4B9050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8C3-37FA-4BD2-891D-019A3235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082-FA14-4D7C-BD10-9D41EE30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51D-4AD0-413E-B67D-0EC42132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B1F-4894-4BA7-836A-E454891F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584-CB08-4FB0-BE01-48F69AAD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90B-C1F4-4B17-A972-3AC5172B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F5A-EE19-4E9A-81CB-DF56A8CB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5779-67F1-4CB3-96A8-E98962B6442A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0F6A-0BAE-4EEC-89D0-9E0612BF69CB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1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取碼原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a50021"/>
                </a:solidFill>
                <a:latin typeface="標楷體"/>
                <a:ea typeface="標楷體"/>
              </a:rPr>
              <a:t>在暸解了取碼部份與應取碼數後，便可利用倉頡字母和輔助字形來選取字碼 ，以下四個原則說明取碼時應遵守的原則：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3124080"/>
            <a:ext cx="45720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Times New Roman"/>
                <a:ea typeface="標楷體"/>
                <a:hlinkClick r:id="rId1" action="ppaction://hlinksldjump"/>
              </a:rPr>
              <a:t>完整原則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Times New Roman"/>
                <a:ea typeface="標楷體"/>
                <a:hlinkClick r:id="rId2" action="ppaction://hlinksldjump"/>
              </a:rPr>
              <a:t>省略原則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41972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所有漢字的編碼是根據倉頡輸入法編製而成，而速成輸入法是倉頡輸入法的簡化版，只取首、尾兩碼。根本不能只用以上原則去解釋所有速成碼，所以要完全掌握速成輸入法，只有多作嘗試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完整原則</a:t>
            </a:r>
            <a:r>
              <a:rPr b="0" lang="zh-TW" sz="2000" spc="-1" strike="noStrike">
                <a:solidFill>
                  <a:srgbClr val="ff3300"/>
                </a:solidFill>
                <a:latin typeface="Arial"/>
                <a:ea typeface="標楷體"/>
              </a:rPr>
              <a:t>（先繁後簡原則）</a:t>
            </a:r>
            <a:r>
              <a:rPr b="0" lang="zh-TW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752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990000"/>
                </a:solidFill>
                <a:latin typeface="標楷體"/>
                <a:ea typeface="標楷體"/>
              </a:rPr>
              <a:t>取形狀較完整，最能保留字形特徵。</a:t>
            </a:r>
            <a:r>
              <a:rPr b="0" lang="zh-TW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  <a:hlinkClick r:id="rId1" action="ppaction://hlinksldjump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981080" y="2666880"/>
          <a:ext cx="6096240" cy="3337200"/>
        </p:xfrm>
        <a:graphic>
          <a:graphicData uri="http://schemas.openxmlformats.org/drawingml/2006/table">
            <a:tbl>
              <a:tblPr/>
              <a:tblGrid>
                <a:gridCol w="609840"/>
                <a:gridCol w="2666880"/>
                <a:gridCol w="2819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7336fc"/>
                          </a:solidFill>
                          <a:latin typeface="Arial"/>
                        </a:rPr>
                        <a:t>正確取碼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8d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錯誤取碼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e3e1"/>
                    </a:solidFill>
                  </a:tcPr>
                </a:tc>
              </a:tr>
              <a:tr h="925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米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ceba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8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e3e1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7336fc"/>
                          </a:solidFill>
                          <a:latin typeface="Arial"/>
                        </a:rPr>
                        <a:t>火   木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8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金   木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e3e1"/>
                    </a:solidFill>
                  </a:tcPr>
                </a:tc>
              </a:tr>
              <a:tr h="84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勿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ceba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8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e3e1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7336fc"/>
                          </a:solidFill>
                          <a:latin typeface="Arial"/>
                        </a:rPr>
                        <a:t>心   竹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e8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竹   竹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e3e1"/>
                    </a:solidFill>
                  </a:tcPr>
                </a:tc>
              </a:tr>
            </a:tbl>
          </a:graphicData>
        </a:graphic>
      </p:graphicFrame>
      <p:pic>
        <p:nvPicPr>
          <p:cNvPr id="111" name="image3" descr=""/>
          <p:cNvPicPr/>
          <p:nvPr/>
        </p:nvPicPr>
        <p:blipFill>
          <a:blip r:embed="rId2"/>
          <a:stretch/>
        </p:blipFill>
        <p:spPr>
          <a:xfrm>
            <a:off x="3009960" y="3276720"/>
            <a:ext cx="1714320" cy="799920"/>
          </a:xfrm>
          <a:prstGeom prst="rect">
            <a:avLst/>
          </a:prstGeom>
          <a:ln w="0">
            <a:noFill/>
          </a:ln>
        </p:spPr>
      </p:pic>
      <p:pic>
        <p:nvPicPr>
          <p:cNvPr id="112" name="image4" descr=""/>
          <p:cNvPicPr/>
          <p:nvPr/>
        </p:nvPicPr>
        <p:blipFill>
          <a:blip r:embed="rId3"/>
          <a:stretch/>
        </p:blipFill>
        <p:spPr>
          <a:xfrm>
            <a:off x="5791320" y="3276720"/>
            <a:ext cx="1714320" cy="799920"/>
          </a:xfrm>
          <a:prstGeom prst="rect">
            <a:avLst/>
          </a:prstGeom>
          <a:ln w="0">
            <a:noFill/>
          </a:ln>
        </p:spPr>
      </p:pic>
      <p:pic>
        <p:nvPicPr>
          <p:cNvPr id="113" name="image5" descr=""/>
          <p:cNvPicPr/>
          <p:nvPr/>
        </p:nvPicPr>
        <p:blipFill>
          <a:blip r:embed="rId4"/>
          <a:stretch/>
        </p:blipFill>
        <p:spPr>
          <a:xfrm>
            <a:off x="3009960" y="4648320"/>
            <a:ext cx="1714320" cy="799920"/>
          </a:xfrm>
          <a:prstGeom prst="rect">
            <a:avLst/>
          </a:prstGeom>
          <a:ln w="0">
            <a:noFill/>
          </a:ln>
        </p:spPr>
      </p:pic>
      <p:pic>
        <p:nvPicPr>
          <p:cNvPr id="114" name="image6" descr=""/>
          <p:cNvPicPr/>
          <p:nvPr/>
        </p:nvPicPr>
        <p:blipFill>
          <a:blip r:embed="rId5"/>
          <a:stretch/>
        </p:blipFill>
        <p:spPr>
          <a:xfrm>
            <a:off x="5753160" y="4686480"/>
            <a:ext cx="1714320" cy="7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包含省略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2133720"/>
            <a:ext cx="6400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若字首或字身的尾碼被下列字形三面包含或四面包含，而且超過法定取碼數時，只取外圍的字形碼，而省略尾碼，稱為包含原則。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del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2971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包含省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27200" y="18288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更多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57400" y="2971800"/>
          <a:ext cx="6095880" cy="2270160"/>
        </p:xfrm>
        <a:graphic>
          <a:graphicData uri="http://schemas.openxmlformats.org/drawingml/2006/table">
            <a:tbl>
              <a:tblPr/>
              <a:tblGrid>
                <a:gridCol w="914400"/>
                <a:gridCol w="2133720"/>
                <a:gridCol w="914400"/>
                <a:gridCol w="2133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bfbf3"/>
                          </a:solidFill>
                          <a:latin typeface="Arial"/>
                        </a:rPr>
                        <a:t>取碼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733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bfbf3"/>
                          </a:solidFill>
                          <a:latin typeface="Arial"/>
                        </a:rPr>
                        <a:t>取碼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7336fc"/>
                    </a:solidFill>
                  </a:tcPr>
                </a:tc>
              </a:tr>
              <a:tr h="1085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璃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d6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fecf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牆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d6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fecfe"/>
                    </a:solidFill>
                  </a:tcPr>
                </a:tc>
              </a:tr>
              <a:tr h="66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一       月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efec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女       田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efecfe"/>
                    </a:solidFill>
                  </a:tcPr>
                </a:tc>
              </a:tr>
            </a:tbl>
          </a:graphicData>
        </a:graphic>
      </p:graphicFrame>
      <p:pic>
        <p:nvPicPr>
          <p:cNvPr id="121" name="image9" descr=""/>
          <p:cNvPicPr/>
          <p:nvPr/>
        </p:nvPicPr>
        <p:blipFill>
          <a:blip r:embed="rId1"/>
          <a:stretch/>
        </p:blipFill>
        <p:spPr>
          <a:xfrm>
            <a:off x="6172200" y="3657600"/>
            <a:ext cx="1714680" cy="800280"/>
          </a:xfrm>
          <a:prstGeom prst="rect">
            <a:avLst/>
          </a:prstGeom>
          <a:ln w="0">
            <a:noFill/>
          </a:ln>
        </p:spPr>
      </p:pic>
      <p:pic>
        <p:nvPicPr>
          <p:cNvPr id="122" name="image10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1714680" cy="800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  <a:hlinkClick r:id="rId3" action="ppaction://hlinksldjump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1:57:03Z</dcterms:created>
  <dc:creator>hkied</dc:creator>
  <dc:description/>
  <dc:language>en-US</dc:language>
  <cp:lastModifiedBy>hkied</cp:lastModifiedBy>
  <dcterms:modified xsi:type="dcterms:W3CDTF">2002-12-30T05:10:23Z</dcterms:modified>
  <cp:revision>166</cp:revision>
  <dc:subject/>
  <dc:title>簡介倉頡輸入法</dc:title>
</cp:coreProperties>
</file>