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096-C61C-42B2-84AC-C21D6DF2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208-B046-4278-9EC1-7D0F8545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B35-18E4-494D-8981-415FB491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778-5B42-4E26-8167-218FFBE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3A61-365E-46F1-B97A-643BAD04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5759-B3B8-4AB0-914E-6B4CCBD6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3B75-4CDF-4CED-ABD2-BBDFA2E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B80-FE10-40E8-B5A3-CD0FD06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6F7B-8146-4D47-B33C-4A805B3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EB8D-F184-46A9-A951-972F90C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AAE8-C9BE-4B84-A439-1A402E2A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D30-E7C5-472F-A103-3A1922B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9D9-0EDE-485E-BE40-BB4C2C9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EC5B-0E15-42B9-BB83-D75F727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93B3-C1E1-492C-865F-653F545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CAC-F7EB-41E3-A64C-AC8CBFBC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9DF4-92B5-4AF6-A32F-337D5FDE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A0B-1E5E-4AA5-8323-806E114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CEC-D24C-4489-A92F-3D351DF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9B9-1189-4C16-A929-CFCCDC32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039-CEDE-481B-8F95-78FEBF8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DED-42C2-4557-ADF7-6A731CEB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2C2-FF2E-4B2F-8549-B54EBDE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D73-18F4-428E-A546-8E74F2F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0E3-69B2-421A-B27E-AA8CC90DB235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ECE9-CDD9-4765-AC43-075F61EF0FE5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例外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95%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以上的中文字，都可依照之前的原則取碼，其餘約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5%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的字，若按相同的原則取碼，亦無不可，但考慮到拆碼上的方便，便把這些難以解拆的字碼簡化，這些字稱為例外字，共分為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5000" y="38098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特殊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93880" y="432756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難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特殊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601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大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木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火</a:t>
            </a: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為特殊字形，當有字形重疊在其上，先取大、木、火的字形，再取其他字形碼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1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66880" y="3048120"/>
            <a:ext cx="4495320" cy="3649320"/>
            <a:chOff x="2666880" y="3048120"/>
            <a:chExt cx="4495320" cy="3649320"/>
          </a:xfrm>
        </p:grpSpPr>
        <p:grpSp>
          <p:nvGrpSpPr>
            <p:cNvPr id="111" name=""/>
            <p:cNvGrpSpPr/>
            <p:nvPr/>
          </p:nvGrpSpPr>
          <p:grpSpPr>
            <a:xfrm>
              <a:off x="2676960" y="3048840"/>
              <a:ext cx="4473360" cy="3648600"/>
              <a:chOff x="2676960" y="3048840"/>
              <a:chExt cx="4473360" cy="36486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676960" y="3051000"/>
                <a:ext cx="924120" cy="550800"/>
                <a:chOff x="2676960" y="3051000"/>
                <a:chExt cx="924120" cy="5508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2676960" y="3051000"/>
                  <a:ext cx="923400" cy="338040"/>
                  <a:chOff x="2676960" y="3051000"/>
                  <a:chExt cx="923400" cy="3380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676960" y="3051000"/>
                    <a:ext cx="923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676960" y="3051720"/>
                    <a:ext cx="923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16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字例</a:t>
                    </a:r>
                    <a:endParaRPr b="0" lang="en-US" sz="16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2676960" y="3051000"/>
                  <a:ext cx="92412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601800" y="3048840"/>
                <a:ext cx="3548520" cy="337320"/>
                <a:chOff x="3601800" y="3048840"/>
                <a:chExt cx="3548520" cy="33732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3601800" y="3048840"/>
                  <a:ext cx="3547800" cy="337320"/>
                  <a:chOff x="3601800" y="3048840"/>
                  <a:chExt cx="3547800" cy="3373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3601800" y="3051000"/>
                    <a:ext cx="3547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601800" y="3048840"/>
                    <a:ext cx="35478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16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取碼</a:t>
                    </a:r>
                    <a:endParaRPr b="0" lang="en-US" sz="16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3601800" y="3051000"/>
                  <a:ext cx="3548520" cy="30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676960" y="3601800"/>
                <a:ext cx="924120" cy="338400"/>
                <a:chOff x="2676960" y="3601800"/>
                <a:chExt cx="924120" cy="3384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76960" y="3601800"/>
                  <a:ext cx="924120" cy="30636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2676960" y="3601800"/>
                  <a:ext cx="923400" cy="338400"/>
                  <a:chOff x="2676960" y="3601800"/>
                  <a:chExt cx="923400" cy="338400"/>
                </a:xfrm>
              </p:grpSpPr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2676960" y="3601800"/>
                    <a:ext cx="922680" cy="338400"/>
                    <a:chOff x="2676960" y="3601800"/>
                    <a:chExt cx="922680" cy="3384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676960" y="360180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676960" y="360288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束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2676960" y="3601800"/>
                    <a:ext cx="9234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3601800" y="3601800"/>
                <a:ext cx="3548520" cy="338400"/>
                <a:chOff x="3601800" y="3601800"/>
                <a:chExt cx="3548520" cy="338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601800" y="3601800"/>
                  <a:ext cx="3548520" cy="30636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3601800" y="3601800"/>
                  <a:ext cx="3547800" cy="338400"/>
                  <a:chOff x="3601800" y="3601800"/>
                  <a:chExt cx="3547800" cy="33840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601800" y="3601800"/>
                    <a:ext cx="3547080" cy="338400"/>
                    <a:chOff x="3601800" y="3601800"/>
                    <a:chExt cx="3547080" cy="33840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601800" y="360180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601800" y="360288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木中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3601800" y="3601800"/>
                    <a:ext cx="35478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676960" y="3902760"/>
                <a:ext cx="924120" cy="337320"/>
                <a:chOff x="2676960" y="3902760"/>
                <a:chExt cx="924120" cy="3373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676960" y="3907800"/>
                  <a:ext cx="924120" cy="30600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2676960" y="3902760"/>
                  <a:ext cx="923400" cy="337320"/>
                  <a:chOff x="2676960" y="3902760"/>
                  <a:chExt cx="923400" cy="33732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676960" y="3902760"/>
                    <a:ext cx="922680" cy="337320"/>
                    <a:chOff x="2676960" y="3902760"/>
                    <a:chExt cx="922680" cy="33732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676960" y="390780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676960" y="390276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夾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2676960" y="3907800"/>
                    <a:ext cx="9234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601800" y="3902760"/>
                <a:ext cx="3548520" cy="337320"/>
                <a:chOff x="3601800" y="3902760"/>
                <a:chExt cx="354852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601800" y="3907800"/>
                  <a:ext cx="3548520" cy="30600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3601800" y="3902760"/>
                  <a:ext cx="3547800" cy="337320"/>
                  <a:chOff x="3601800" y="3902760"/>
                  <a:chExt cx="3547800" cy="33732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3601800" y="3902760"/>
                    <a:ext cx="3547080" cy="337320"/>
                    <a:chOff x="3601800" y="3902760"/>
                    <a:chExt cx="3547080" cy="33732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3601800" y="390780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3601800" y="390276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木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" name=""/>
                  <p:cNvSpPr/>
                  <p:nvPr/>
                </p:nvSpPr>
                <p:spPr>
                  <a:xfrm>
                    <a:off x="3601800" y="3907800"/>
                    <a:ext cx="35478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2676960" y="4214520"/>
                <a:ext cx="924120" cy="338400"/>
                <a:chOff x="2676960" y="4214520"/>
                <a:chExt cx="924120" cy="3384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676960" y="4214520"/>
                  <a:ext cx="924120" cy="30636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2676960" y="4214520"/>
                  <a:ext cx="923400" cy="338400"/>
                  <a:chOff x="2676960" y="4214520"/>
                  <a:chExt cx="923400" cy="33840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2676960" y="4214520"/>
                    <a:ext cx="922680" cy="338400"/>
                    <a:chOff x="2676960" y="4214520"/>
                    <a:chExt cx="922680" cy="3384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2676960" y="421452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676960" y="421560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東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2676960" y="4214520"/>
                    <a:ext cx="9234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3601800" y="4214520"/>
                <a:ext cx="3548520" cy="338400"/>
                <a:chOff x="3601800" y="4214520"/>
                <a:chExt cx="3548520" cy="338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601800" y="4214520"/>
                  <a:ext cx="3548520" cy="30636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3601800" y="4214520"/>
                  <a:ext cx="3547800" cy="338400"/>
                  <a:chOff x="3601800" y="4214520"/>
                  <a:chExt cx="3547800" cy="3384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3601800" y="4214520"/>
                    <a:ext cx="3547080" cy="338400"/>
                    <a:chOff x="3601800" y="4214520"/>
                    <a:chExt cx="3547080" cy="33840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601800" y="421452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601800" y="421560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木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3601800" y="4214520"/>
                    <a:ext cx="35478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2676960" y="4517640"/>
                <a:ext cx="924120" cy="337320"/>
                <a:chOff x="2676960" y="4517640"/>
                <a:chExt cx="924120" cy="337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676960" y="4520520"/>
                  <a:ext cx="924120" cy="30600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2676960" y="4517640"/>
                  <a:ext cx="923400" cy="337320"/>
                  <a:chOff x="2676960" y="4517640"/>
                  <a:chExt cx="923400" cy="337320"/>
                </a:xfrm>
              </p:grpSpPr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2676960" y="4517640"/>
                    <a:ext cx="922680" cy="337320"/>
                    <a:chOff x="2676960" y="4517640"/>
                    <a:chExt cx="922680" cy="33732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676960" y="452052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676960" y="451764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棘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" name=""/>
                  <p:cNvSpPr/>
                  <p:nvPr/>
                </p:nvSpPr>
                <p:spPr>
                  <a:xfrm>
                    <a:off x="2676960" y="4520520"/>
                    <a:ext cx="9234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3601800" y="4517640"/>
                <a:ext cx="3548520" cy="337320"/>
                <a:chOff x="3601800" y="4517640"/>
                <a:chExt cx="3548520" cy="337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601800" y="4520520"/>
                  <a:ext cx="3548520" cy="30600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3601800" y="4517640"/>
                  <a:ext cx="3547800" cy="337320"/>
                  <a:chOff x="3601800" y="4517640"/>
                  <a:chExt cx="3547800" cy="33732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3601800" y="4517640"/>
                    <a:ext cx="3547080" cy="337320"/>
                    <a:chOff x="3601800" y="4517640"/>
                    <a:chExt cx="3547080" cy="33732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601800" y="452052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601800" y="451764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木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" name=""/>
                  <p:cNvSpPr/>
                  <p:nvPr/>
                </p:nvSpPr>
                <p:spPr>
                  <a:xfrm>
                    <a:off x="3601800" y="4520520"/>
                    <a:ext cx="35478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2676960" y="4825080"/>
                <a:ext cx="924120" cy="337320"/>
                <a:chOff x="2676960" y="4825080"/>
                <a:chExt cx="924120" cy="337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676960" y="4827240"/>
                  <a:ext cx="924120" cy="30600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2676960" y="4825080"/>
                  <a:ext cx="923400" cy="337320"/>
                  <a:chOff x="2676960" y="4825080"/>
                  <a:chExt cx="923400" cy="33732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2676960" y="4825080"/>
                    <a:ext cx="922680" cy="337320"/>
                    <a:chOff x="2676960" y="4825080"/>
                    <a:chExt cx="922680" cy="3373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676960" y="482724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676960" y="482508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末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" name=""/>
                  <p:cNvSpPr/>
                  <p:nvPr/>
                </p:nvSpPr>
                <p:spPr>
                  <a:xfrm>
                    <a:off x="2676960" y="4827240"/>
                    <a:ext cx="9234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601800" y="4825080"/>
                <a:ext cx="3548520" cy="337320"/>
                <a:chOff x="3601800" y="4825080"/>
                <a:chExt cx="3548520" cy="3373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601800" y="4827240"/>
                  <a:ext cx="3548520" cy="30600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3601800" y="4825080"/>
                  <a:ext cx="3547800" cy="337320"/>
                  <a:chOff x="3601800" y="4825080"/>
                  <a:chExt cx="3547800" cy="33732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3601800" y="4825080"/>
                    <a:ext cx="3547080" cy="337320"/>
                    <a:chOff x="3601800" y="4825080"/>
                    <a:chExt cx="3547080" cy="337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601800" y="482724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601800" y="482508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木十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3601800" y="4827240"/>
                    <a:ext cx="35478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2676960" y="5132520"/>
                <a:ext cx="924120" cy="337320"/>
                <a:chOff x="2676960" y="5132520"/>
                <a:chExt cx="924120" cy="337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676960" y="5133240"/>
                  <a:ext cx="924120" cy="30600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2676960" y="5132520"/>
                  <a:ext cx="923400" cy="337320"/>
                  <a:chOff x="2676960" y="5132520"/>
                  <a:chExt cx="923400" cy="33732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676960" y="5132520"/>
                    <a:ext cx="922680" cy="337320"/>
                    <a:chOff x="2676960" y="5132520"/>
                    <a:chExt cx="922680" cy="3373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676960" y="513324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676960" y="513252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拳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2676960" y="5133240"/>
                    <a:ext cx="9234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601800" y="5132520"/>
                <a:ext cx="3548520" cy="337320"/>
                <a:chOff x="3601800" y="5132520"/>
                <a:chExt cx="3548520" cy="3373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601800" y="5133240"/>
                  <a:ext cx="3548520" cy="30600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601800" y="5132520"/>
                  <a:ext cx="3547800" cy="337320"/>
                  <a:chOff x="3601800" y="5132520"/>
                  <a:chExt cx="3547800" cy="33732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3601800" y="5132520"/>
                    <a:ext cx="3547080" cy="337320"/>
                    <a:chOff x="3601800" y="5132520"/>
                    <a:chExt cx="3547080" cy="33732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3601800" y="513324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3601800" y="513252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火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5" name=""/>
                  <p:cNvSpPr/>
                  <p:nvPr/>
                </p:nvSpPr>
                <p:spPr>
                  <a:xfrm>
                    <a:off x="3601800" y="5133240"/>
                    <a:ext cx="35478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" name=""/>
              <p:cNvGrpSpPr/>
              <p:nvPr/>
            </p:nvGrpSpPr>
            <p:grpSpPr>
              <a:xfrm>
                <a:off x="2676960" y="5438880"/>
                <a:ext cx="924120" cy="337320"/>
                <a:chOff x="2676960" y="5438880"/>
                <a:chExt cx="924120" cy="3373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676960" y="5439600"/>
                  <a:ext cx="924120" cy="30600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2676960" y="5438880"/>
                  <a:ext cx="923400" cy="337320"/>
                  <a:chOff x="2676960" y="5438880"/>
                  <a:chExt cx="923400" cy="337320"/>
                </a:xfrm>
              </p:grpSpPr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2676960" y="5438880"/>
                    <a:ext cx="922680" cy="337320"/>
                    <a:chOff x="2676960" y="5438880"/>
                    <a:chExt cx="922680" cy="33732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676960" y="543960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676960" y="543888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" name=""/>
                  <p:cNvSpPr/>
                  <p:nvPr/>
                </p:nvSpPr>
                <p:spPr>
                  <a:xfrm>
                    <a:off x="2676960" y="5439600"/>
                    <a:ext cx="9234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3601800" y="5438880"/>
                <a:ext cx="3548520" cy="337320"/>
                <a:chOff x="3601800" y="5438880"/>
                <a:chExt cx="3548520" cy="337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601800" y="5439600"/>
                  <a:ext cx="3548520" cy="30600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3601800" y="5438880"/>
                  <a:ext cx="3547800" cy="337320"/>
                  <a:chOff x="3601800" y="5438880"/>
                  <a:chExt cx="3547800" cy="33732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3601800" y="5438880"/>
                    <a:ext cx="3547080" cy="337320"/>
                    <a:chOff x="3601800" y="5438880"/>
                    <a:chExt cx="3547080" cy="3373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601800" y="543960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601800" y="543888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火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9" name=""/>
                  <p:cNvSpPr/>
                  <p:nvPr/>
                </p:nvSpPr>
                <p:spPr>
                  <a:xfrm>
                    <a:off x="3601800" y="5439600"/>
                    <a:ext cx="3547800" cy="306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2676960" y="5746320"/>
                <a:ext cx="924120" cy="339480"/>
                <a:chOff x="2676960" y="5746320"/>
                <a:chExt cx="924120" cy="33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676960" y="5746320"/>
                  <a:ext cx="924120" cy="30636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2676960" y="5746320"/>
                  <a:ext cx="923400" cy="339480"/>
                  <a:chOff x="2676960" y="5746320"/>
                  <a:chExt cx="923400" cy="339480"/>
                </a:xfrm>
              </p:grpSpPr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676960" y="5746320"/>
                    <a:ext cx="922680" cy="339480"/>
                    <a:chOff x="2676960" y="5746320"/>
                    <a:chExt cx="922680" cy="33948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2676960" y="574632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2676960" y="574848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秉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6" name=""/>
                  <p:cNvSpPr/>
                  <p:nvPr/>
                </p:nvSpPr>
                <p:spPr>
                  <a:xfrm>
                    <a:off x="2676960" y="5746320"/>
                    <a:ext cx="9234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3601800" y="5746320"/>
                <a:ext cx="3548520" cy="339480"/>
                <a:chOff x="3601800" y="5746320"/>
                <a:chExt cx="3548520" cy="339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601800" y="5746320"/>
                  <a:ext cx="3548520" cy="30636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3601800" y="5746320"/>
                  <a:ext cx="3547800" cy="339480"/>
                  <a:chOff x="3601800" y="5746320"/>
                  <a:chExt cx="3547800" cy="33948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3601800" y="5746320"/>
                    <a:ext cx="3547080" cy="339480"/>
                    <a:chOff x="3601800" y="5746320"/>
                    <a:chExt cx="3547080" cy="33948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601800" y="574632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3601800" y="574848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竹中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" name=""/>
                  <p:cNvSpPr/>
                  <p:nvPr/>
                </p:nvSpPr>
                <p:spPr>
                  <a:xfrm>
                    <a:off x="3601800" y="5746320"/>
                    <a:ext cx="35478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2676960" y="6052680"/>
                <a:ext cx="924120" cy="339480"/>
                <a:chOff x="2676960" y="6052680"/>
                <a:chExt cx="924120" cy="33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676960" y="6052680"/>
                  <a:ext cx="924120" cy="30636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2676960" y="6052680"/>
                  <a:ext cx="923400" cy="339480"/>
                  <a:chOff x="2676960" y="6052680"/>
                  <a:chExt cx="923400" cy="33948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2676960" y="6052680"/>
                    <a:ext cx="922680" cy="339480"/>
                    <a:chOff x="2676960" y="6052680"/>
                    <a:chExt cx="922680" cy="339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676960" y="605268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676960" y="605484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0" name=""/>
                  <p:cNvSpPr/>
                  <p:nvPr/>
                </p:nvSpPr>
                <p:spPr>
                  <a:xfrm>
                    <a:off x="2676960" y="6052680"/>
                    <a:ext cx="9234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3601800" y="6052680"/>
                <a:ext cx="3548520" cy="339480"/>
                <a:chOff x="3601800" y="6052680"/>
                <a:chExt cx="3548520" cy="339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601800" y="6052680"/>
                  <a:ext cx="3548520" cy="30636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3601800" y="6052680"/>
                  <a:ext cx="3547800" cy="339480"/>
                  <a:chOff x="3601800" y="6052680"/>
                  <a:chExt cx="3547800" cy="33948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3601800" y="6052680"/>
                    <a:ext cx="3547080" cy="339480"/>
                    <a:chOff x="3601800" y="6052680"/>
                    <a:chExt cx="3547080" cy="33948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601800" y="605268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601800" y="605484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人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7" name=""/>
                  <p:cNvSpPr/>
                  <p:nvPr/>
                </p:nvSpPr>
                <p:spPr>
                  <a:xfrm>
                    <a:off x="3601800" y="6052680"/>
                    <a:ext cx="35478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2676960" y="6359040"/>
                <a:ext cx="924120" cy="338400"/>
                <a:chOff x="2676960" y="6359040"/>
                <a:chExt cx="924120" cy="338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676960" y="6359040"/>
                  <a:ext cx="924120" cy="306360"/>
                </a:xfrm>
                <a:prstGeom prst="rect">
                  <a:avLst/>
                </a:prstGeom>
                <a:solidFill>
                  <a:srgbClr val="e8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2676960" y="6359040"/>
                  <a:ext cx="923400" cy="338400"/>
                  <a:chOff x="2676960" y="6359040"/>
                  <a:chExt cx="923400" cy="33840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676960" y="6359040"/>
                    <a:ext cx="922680" cy="338400"/>
                    <a:chOff x="2676960" y="6359040"/>
                    <a:chExt cx="922680" cy="3384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676960" y="6359040"/>
                      <a:ext cx="922680" cy="36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676960" y="6360120"/>
                      <a:ext cx="922680" cy="337320"/>
                    </a:xfrm>
                    <a:prstGeom prst="rect">
                      <a:avLst/>
                    </a:prstGeom>
                    <a:solidFill>
                      <a:srgbClr val="e8ff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4" name=""/>
                  <p:cNvSpPr/>
                  <p:nvPr/>
                </p:nvSpPr>
                <p:spPr>
                  <a:xfrm>
                    <a:off x="2676960" y="6359040"/>
                    <a:ext cx="9234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3601800" y="6359040"/>
                <a:ext cx="3548520" cy="338400"/>
                <a:chOff x="3601800" y="6359040"/>
                <a:chExt cx="3548520" cy="338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601800" y="6359040"/>
                  <a:ext cx="3548520" cy="30636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3601800" y="6359040"/>
                  <a:ext cx="3547800" cy="338400"/>
                  <a:chOff x="3601800" y="6359040"/>
                  <a:chExt cx="3547800" cy="33840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601800" y="6359040"/>
                    <a:ext cx="3547080" cy="338400"/>
                    <a:chOff x="3601800" y="6359040"/>
                    <a:chExt cx="3547080" cy="3384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601800" y="6359040"/>
                      <a:ext cx="3547080" cy="36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601800" y="6360120"/>
                      <a:ext cx="3547080" cy="337320"/>
                    </a:xfrm>
                    <a:prstGeom prst="rect">
                      <a:avLst/>
                    </a:prstGeom>
                    <a:solidFill>
                      <a:srgbClr val="ffff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3333"/>
                          </a:solidFill>
                          <a:latin typeface="Times New Roman"/>
                        </a:rPr>
                        <a:t>山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3601800" y="6359040"/>
                    <a:ext cx="354780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2" name=""/>
            <p:cNvSpPr/>
            <p:nvPr/>
          </p:nvSpPr>
          <p:spPr>
            <a:xfrm>
              <a:off x="2666880" y="3048120"/>
              <a:ext cx="4495320" cy="3620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難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2575080"/>
            <a:ext cx="624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由於大部份</a:t>
            </a: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"</a:t>
            </a: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難字</a:t>
            </a: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"</a:t>
            </a: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都不是首尾碼，取碼時根本無須理會，但有一些例外字是由首、難所組成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6765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因有些字形筆劃過於繁瑣，不易取碼，為方便取碼，便規定其不易取碼的部份用一個</a:t>
            </a: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難字鍵（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X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代替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1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05120" y="3886200"/>
          <a:ext cx="6553080" cy="1617840"/>
        </p:xfrm>
        <a:graphic>
          <a:graphicData uri="http://schemas.openxmlformats.org/drawingml/2006/table">
            <a:tbl>
              <a:tblPr/>
              <a:tblGrid>
                <a:gridCol w="985680"/>
                <a:gridCol w="1057320"/>
                <a:gridCol w="1198440"/>
                <a:gridCol w="986040"/>
                <a:gridCol w="1127160"/>
                <a:gridCol w="1198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舊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蕭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卜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濟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弓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hx1" descr=""/>
          <p:cNvPicPr/>
          <p:nvPr/>
        </p:nvPicPr>
        <p:blipFill>
          <a:blip r:embed="rId2"/>
          <a:stretch/>
        </p:blipFill>
        <p:spPr>
          <a:xfrm>
            <a:off x="2152800" y="426708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lx" descr=""/>
          <p:cNvPicPr/>
          <p:nvPr/>
        </p:nvPicPr>
        <p:blipFill>
          <a:blip r:embed="rId3"/>
          <a:stretch/>
        </p:blipFill>
        <p:spPr>
          <a:xfrm>
            <a:off x="5334120" y="428616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yx" descr=""/>
          <p:cNvPicPr/>
          <p:nvPr/>
        </p:nvPicPr>
        <p:blipFill>
          <a:blip r:embed="rId4"/>
          <a:stretch/>
        </p:blipFill>
        <p:spPr>
          <a:xfrm>
            <a:off x="2133720" y="495288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nx" descr=""/>
          <p:cNvPicPr/>
          <p:nvPr/>
        </p:nvPicPr>
        <p:blipFill>
          <a:blip r:embed="rId5"/>
          <a:stretch/>
        </p:blipFill>
        <p:spPr>
          <a:xfrm>
            <a:off x="5334120" y="4896000"/>
            <a:ext cx="5140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2-12-30T05:11:08Z</dcterms:modified>
  <cp:revision>164</cp:revision>
  <dc:subject/>
  <dc:title>簡介倉頡輸入法</dc:title>
</cp:coreProperties>
</file>