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004-12A7-46E3-A357-D4E76596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2E6-71DB-46E5-818D-08BE2BF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1A9-D5E0-4ADC-8E23-74D026C9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352-60E9-4651-B186-5B92E24F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A60-13E8-49A1-B8C7-7A3DF954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8FE6-2C44-4383-8432-BAB3D28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BAC-BC89-4E8E-88E7-6D2FEC72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FABE-6D1C-4DEB-80D7-9F52122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B54E-27FC-4BE2-A2C0-BCB7CA8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5947-6C37-4931-BD8C-501380BA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01C8-4FAC-4E71-AA41-DB0F1BA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31E-0F28-4520-AD01-3D9483E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F3A7-8E79-4A47-A860-BF19BBE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666-D4CC-4F1E-ADD3-D740D68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8EC5-1406-4E3E-AF02-FC6DCB53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4737-15F1-436F-AE76-900933FF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80C-F7A8-40EA-8832-965CD874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BCE-73CD-40D1-B48F-0BCEE1A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A04-B361-4770-9DFF-FF4FB82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9FF-9D5A-44DC-A536-CF3940B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27B-1CF5-464E-BCDF-DED23516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FCD-A896-46FE-A243-9AEF910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299-C24F-4B0B-885B-215ACABA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9AA-2F36-407A-820E-6FC395CE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1E9-8CC6-4767-8E96-093287354B86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8FFE-FB70-426F-B190-61F9A36363D9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8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只學識倉頡字母和輔助字形，是沒有可能正確取得中文字的字碼。所以要學習以下幾個名詞定義和最基本的取碼概念。</a:t>
            </a:r>
            <a:r>
              <a:rPr b="0" lang="zh-TW" sz="2200" spc="-1" strike="noStrike">
                <a:solidFill>
                  <a:srgbClr val="660000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957400"/>
            <a:ext cx="289548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基本字形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取碼順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字首字身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連體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分體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中國字的基本字型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590920"/>
            <a:ext cx="556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形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3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4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a50021"/>
                </a:solidFill>
                <a:latin typeface="Arial"/>
                <a:ea typeface="標楷體"/>
              </a:rPr>
              <a:t>連體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24080" y="1752480"/>
          <a:ext cx="3621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752480"/>
                    <a:ext cx="362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00400" y="4343400"/>
          <a:ext cx="3618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343400"/>
                    <a:ext cx="361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0" y="23623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鳥、車、亞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　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029200"/>
            <a:ext cx="3200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因、同、間、凶</a:t>
            </a:r>
            <a:r>
              <a:rPr b="0" lang="zh-TW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457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三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1371600"/>
          <a:ext cx="251460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371600"/>
                    <a:ext cx="2514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666880" y="3962520"/>
          <a:ext cx="22860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96252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601640" y="3200400"/>
            <a:ext cx="45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四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順序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6668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左至右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9084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792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371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的取碼是根據中國字的基本字形，由左至右、由上至下、由外至內取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3996000" cy="102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33920" y="3821040"/>
            <a:ext cx="3311280" cy="108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76720" y="5410080"/>
            <a:ext cx="4114800" cy="10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411480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上至下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2920" y="55864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外至內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首、字身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50804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輸入法將一個字分為</a:t>
            </a: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首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和</a:t>
            </a: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身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兩部份，用作限制取碼數目，使到每字最多只能取五個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字體中本身可作外內、上下或左右切割分離者，而其最外面，最左邊或最上方的字形則稱之為字首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0384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是指字首以外的部份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2362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首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9360" y="3581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身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5720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666600"/>
                </a:solidFill>
                <a:latin typeface="Times New Roman"/>
                <a:ea typeface="標楷體"/>
              </a:rPr>
              <a:t>次字首、次字身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981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當一個字的字身可以再分拆為「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字首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及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字身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時，則稱為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次字首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及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次字身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6480" y="594360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38480" y="5943600"/>
            <a:ext cx="574920" cy="514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連體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75248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字是指字體本身的筆劃交連而無法可以切割分開的字。</a:t>
            </a:r>
            <a:r>
              <a:rPr b="0" lang="zh-TW" sz="21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321000"/>
            <a:ext cx="76201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1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第一碼為字首，其餘部份為字身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2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字身在三碼以內者，依據取碼順序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3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字身四碼或以上者，取字身的首、次、尾三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	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所以連體字最多取四碼：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字首一碼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+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字身的首、次、尾三碼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。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	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亦即全字的首、次、三及尾四碼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)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9120" y="263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取碼通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分體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417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Times New Roman"/>
                <a:ea typeface="標楷體"/>
              </a:rPr>
              <a:t>凡字體可被分割為字首、字身兩部份的字，稱為分體字。或符合下列條件之一者，亦皆為分體字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819520"/>
            <a:ext cx="8458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取碼數目最多五個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首兩碼或以下，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首多於兩碼者，只取首尾兩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身若為連體字，取首、二及尾三個碼，不足三個碼則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身若為分體字，則將字身再分為次字首及次字身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次字首若為單碼者，取次字首一碼，次字身首、尾碼。</a:t>
            </a:r>
            <a:r>
              <a:rPr b="0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非單碼次字首，則只取次字首的首、尾兩碼及次字身尾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85440" y="266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取碼通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5:36:21Z</dcterms:modified>
  <cp:revision>152</cp:revision>
  <dc:subject/>
  <dc:title>簡介倉頡輸入法</dc:title>
</cp:coreProperties>
</file>