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gif" ContentType="image/gi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F9BF-B9F9-4108-97F7-7AF9F59F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7C0B-2A65-49C8-AAD8-F12EFC28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9938-2563-4640-AF2C-064A0A38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BD93-CCD4-45E1-B8BE-D785E001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FFAD-D651-4D22-8B3B-03E87120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DD5B-85AB-467A-894C-7D6635F1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F6E6-B726-43BB-9FD1-43538965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0925-E4FE-4405-9D0A-46104E48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F30B-7774-4DAE-B986-001FBFE0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288E-944D-400F-BCEB-DFF08AB4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84F8-A86B-434E-9908-BBCE0F16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A703-1584-4CE0-8474-675D9197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A7A5-0883-4F56-AABB-49BC7F37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07C3-8448-488A-B540-7BF4F40E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4494-4C8D-44DB-B269-DDF4B9CE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DBDB-EE80-44A2-A1DB-4895C9E8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B322-96B9-4157-AE67-A0FE8FBF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9AF4-95EC-4F9E-9501-59A8BFEF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8561-4DD7-47F1-8B8E-A95709DC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5818-AF96-4CCF-8FF7-7EE7A41A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1F26-D9D0-4689-A135-1949CB51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D98A-A4FA-4216-AC0F-011374FC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1A63-2B13-4BF2-B98F-F3A56BA6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4BD5-DE69-4C81-9E0E-C2B3A16F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247B-EE6B-49EF-BAF9-2D5227DB93A0}" type="slidenum">
              <a:rPr b="0" lang="zh-TW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E2FA-8B24-4342-AF0E-0D84B792368F}" type="slidenum">
              <a:rPr b="0" lang="zh-TW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an/kn.swf" TargetMode="External"/><Relationship Id="rId3" Type="http://schemas.openxmlformats.org/officeDocument/2006/relationships/hyperlink" Target="file:///an/ma.swf" TargetMode="External"/><Relationship Id="rId4" Type="http://schemas.openxmlformats.org/officeDocument/2006/relationships/hyperlink" Target="file:///an/mig.swf" TargetMode="External"/><Relationship Id="rId5" Type="http://schemas.openxmlformats.org/officeDocument/2006/relationships/hyperlink" Target="file:///an/ng.swf" TargetMode="External"/><Relationship Id="rId6" Type="http://schemas.openxmlformats.org/officeDocument/2006/relationships/hyperlink" Target="file:///an/qpr.swf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an/rvp.swf" TargetMode="External"/><Relationship Id="rId3" Type="http://schemas.openxmlformats.org/officeDocument/2006/relationships/hyperlink" Target="file:///an/shqu.swf" TargetMode="External"/><Relationship Id="rId4" Type="http://schemas.openxmlformats.org/officeDocument/2006/relationships/hyperlink" Target="file:///an/tmbuu.swf" TargetMode="External"/><Relationship Id="rId5" Type="http://schemas.openxmlformats.org/officeDocument/2006/relationships/hyperlink" Target="file:///an/toav.swf" TargetMode="External"/><Relationship Id="rId6" Type="http://schemas.openxmlformats.org/officeDocument/2006/relationships/hyperlink" Target="file:///an/tqm.swf" TargetMode="External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hyperlink" Target="file:///an/nk.swf" TargetMode="External"/><Relationship Id="rId5" Type="http://schemas.openxmlformats.org/officeDocument/2006/relationships/hyperlink" Target="file:///an/olwl.swf" TargetMode="External"/><Relationship Id="rId6" Type="http://schemas.openxmlformats.org/officeDocument/2006/relationships/hyperlink" Target="file:///an/oudk.swf" TargetMode="External"/><Relationship Id="rId7" Type="http://schemas.openxmlformats.org/officeDocument/2006/relationships/hyperlink" Target="file:///an/pkk.swf" TargetMode="External"/><Relationship Id="rId8" Type="http://schemas.openxmlformats.org/officeDocument/2006/relationships/hyperlink" Target="file:///an/plbk.swf" TargetMode="External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an/abjj.swf" TargetMode="External"/><Relationship Id="rId3" Type="http://schemas.openxmlformats.org/officeDocument/2006/relationships/hyperlink" Target="file:///an/crsl.swf" TargetMode="External"/><Relationship Id="rId4" Type="http://schemas.openxmlformats.org/officeDocument/2006/relationships/hyperlink" Target="file:///an/egni.swf" TargetMode="External"/><Relationship Id="rId5" Type="http://schemas.openxmlformats.org/officeDocument/2006/relationships/hyperlink" Target="file:///an/jeq.swf" TargetMode="External"/><Relationship Id="rId6" Type="http://schemas.openxmlformats.org/officeDocument/2006/relationships/hyperlink" Target="file:///an/jjomj.swf" TargetMode="External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an/nnpr.swf" TargetMode="External"/><Relationship Id="rId3" Type="http://schemas.openxmlformats.org/officeDocument/2006/relationships/hyperlink" Target="file:///an/qycb.swf" TargetMode="External"/><Relationship Id="rId4" Type="http://schemas.openxmlformats.org/officeDocument/2006/relationships/hyperlink" Target="file:///an/twln.swf" TargetMode="External"/><Relationship Id="rId5" Type="http://schemas.openxmlformats.org/officeDocument/2006/relationships/hyperlink" Target="file:///an/wryw.swf" TargetMode="External"/><Relationship Id="rId6" Type="http://schemas.openxmlformats.org/officeDocument/2006/relationships/hyperlink" Target="file:///an/yuav.swf" TargetMode="External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取碼原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a50021"/>
                </a:solidFill>
                <a:latin typeface="標楷體"/>
                <a:ea typeface="標楷體"/>
              </a:rPr>
              <a:t>在暸解了取碼部份和應取碼數後，便可利用倉頡字母和輔助字形來選取字碼 ，以下四個原則說明取碼時應遵守的規則：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3124080"/>
            <a:ext cx="45720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ae4828"/>
                </a:solidFill>
                <a:uFillTx/>
                <a:latin typeface="Times New Roman"/>
                <a:ea typeface="標楷體"/>
                <a:hlinkClick r:id="rId1" action="ppaction://hlinksldjump"/>
              </a:rPr>
              <a:t>精簡原則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ae4828"/>
                </a:solidFill>
                <a:uFillTx/>
                <a:latin typeface="Times New Roman"/>
                <a:ea typeface="標楷體"/>
                <a:hlinkClick r:id="rId2" action="ppaction://hlinksldjump"/>
              </a:rPr>
              <a:t>完整原則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ae4828"/>
                </a:solidFill>
                <a:uFillTx/>
                <a:latin typeface="Times New Roman"/>
                <a:ea typeface="標楷體"/>
                <a:hlinkClick r:id="rId3" action="ppaction://hlinksldjump"/>
              </a:rPr>
              <a:t>字形特徵原則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ae4828"/>
                </a:solidFill>
                <a:uFillTx/>
                <a:latin typeface="Times New Roman"/>
                <a:ea typeface="標楷體"/>
                <a:hlinkClick r:id="rId4" action="ppaction://hlinksldjump"/>
              </a:rPr>
              <a:t>省略原則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438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精簡原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97640" y="1828800"/>
            <a:ext cx="102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a50021"/>
                </a:solidFill>
                <a:latin typeface="標楷體"/>
                <a:ea typeface="標楷體"/>
              </a:rPr>
              <a:t>當一個字有多種拆碼方去的時候</a:t>
            </a:r>
            <a:r>
              <a:rPr b="0" lang="zh-TW" sz="2200" spc="-1" strike="noStrike">
                <a:solidFill>
                  <a:srgbClr val="a50021"/>
                </a:solidFill>
                <a:latin typeface="標楷體"/>
                <a:ea typeface="標楷體"/>
              </a:rPr>
              <a:t>,</a:t>
            </a:r>
            <a:r>
              <a:rPr b="0" lang="zh-TW" sz="2200" spc="-1" strike="noStrike">
                <a:solidFill>
                  <a:srgbClr val="a50021"/>
                </a:solidFill>
                <a:latin typeface="標楷體"/>
                <a:ea typeface="標楷體"/>
              </a:rPr>
              <a:t>以字碼最少、最精簡為正確。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4800" y="2819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09142"/>
                </a:solidFill>
                <a:latin typeface="Times New Roman"/>
                <a:ea typeface="標楷體"/>
              </a:rPr>
              <a:t>說明例子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309840" y="3429000"/>
            <a:ext cx="685800" cy="554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668680" y="46483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09142"/>
                </a:solidFill>
                <a:latin typeface="Times New Roman"/>
                <a:ea typeface="標楷體"/>
              </a:rPr>
              <a:t>更多例子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876400" y="5410080"/>
          <a:ext cx="3581280" cy="457200"/>
        </p:xfrm>
        <a:graphic>
          <a:graphicData uri="http://schemas.openxmlformats.org/drawingml/2006/table">
            <a:tbl>
              <a:tblPr/>
              <a:tblGrid>
                <a:gridCol w="716040"/>
                <a:gridCol w="716040"/>
                <a:gridCol w="717480"/>
                <a:gridCol w="716040"/>
                <a:gridCol w="71568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"/>
                        </a:rPr>
                        <a:t>九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"/>
                        </a:rPr>
                        <a:t>百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4"/>
                        </a:rPr>
                        <a:t>至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5"/>
                        </a:rPr>
                        <a:t>丑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6"/>
                        </a:rPr>
                        <a:t>拘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822960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211640" y="3429000"/>
            <a:ext cx="1008000" cy="2160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27640" y="3573360"/>
            <a:ext cx="21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35640" y="2924280"/>
            <a:ext cx="28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08720" y="299736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807f9"/>
                </a:solidFill>
                <a:latin typeface="Arial"/>
              </a:rPr>
              <a:t>可取碼 “一十一” 或 “一土”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350028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</a:rPr>
              <a:t>由於精簡原則的關係，必須取最少的碼數，所以正確的取碼是“一土”。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完整原則</a:t>
            </a:r>
            <a:r>
              <a:rPr b="0" lang="zh-TW" sz="2000" spc="-1" strike="noStrike">
                <a:solidFill>
                  <a:srgbClr val="ff3300"/>
                </a:solidFill>
                <a:latin typeface="Arial"/>
                <a:ea typeface="標楷體"/>
              </a:rPr>
              <a:t>（先繁後簡原則）</a:t>
            </a:r>
            <a:r>
              <a:rPr b="0" lang="zh-TW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03400" y="2306520"/>
            <a:ext cx="8076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當出現多種取碼方式，而它們的字碼數目也是相等，無法用精簡原則判斷時，便取字中較繁複及完整的部件之字形碼，次取較簡單的字碼。</a:t>
            </a:r>
            <a:r>
              <a:rPr b="0" lang="zh-TW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70200" y="32004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09142"/>
                </a:solidFill>
                <a:latin typeface="Times New Roman"/>
                <a:ea typeface="標楷體"/>
              </a:rPr>
              <a:t>說明例子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70200" y="49528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09142"/>
                </a:solidFill>
                <a:latin typeface="Times New Roman"/>
                <a:ea typeface="標楷體"/>
              </a:rPr>
              <a:t>更多例子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708360" y="3930480"/>
            <a:ext cx="593640" cy="65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3200400" y="5562720"/>
          <a:ext cx="3581280" cy="45720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  <a:gridCol w="71604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"/>
                        </a:rPr>
                        <a:t>民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"/>
                        </a:rPr>
                        <a:t>尾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4"/>
                        </a:rPr>
                        <a:t>觀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5"/>
                        </a:rPr>
                        <a:t>艱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6"/>
                        </a:rPr>
                        <a:t>差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822960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500720" y="3900600"/>
            <a:ext cx="1008000" cy="21564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16720" y="4044960"/>
            <a:ext cx="21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24360" y="3395520"/>
            <a:ext cx="28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7440" y="346860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807f9"/>
                </a:solidFill>
                <a:latin typeface="Arial"/>
              </a:rPr>
              <a:t>字首可取碼 “手一” 或 “十土”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97440" y="397188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</a:rPr>
              <a:t>為了符合完整原則，必須先取較繁瑣的字形，所以字首正確取碼是“手一”。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752480" y="2895480"/>
          <a:ext cx="6553440" cy="1676520"/>
        </p:xfrm>
        <a:graphic>
          <a:graphicData uri="http://schemas.openxmlformats.org/drawingml/2006/table">
            <a:tbl>
              <a:tblPr/>
              <a:tblGrid>
                <a:gridCol w="1752840"/>
                <a:gridCol w="2373120"/>
                <a:gridCol w="242748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說明例子：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正確取碼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錯誤取碼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e09142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原因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避免在轉角處分割字形。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字形特徵原則</a:t>
            </a:r>
            <a:r>
              <a:rPr b="0" lang="zh-TW" sz="4400" spc="-1" strike="noStrike">
                <a:solidFill>
                  <a:srgbClr val="e0914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1219320"/>
            <a:ext cx="63244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取碼時，儘可能不取重疊字形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將兩相接的字形在同一直線上分割取碼。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避免在轉角處分割字形。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0" y="3429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733920" y="3352680"/>
            <a:ext cx="1981080" cy="762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172200" y="3322800"/>
            <a:ext cx="2057400" cy="792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057400" y="5029200"/>
            <a:ext cx="13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09142"/>
                </a:solidFill>
                <a:latin typeface="Times New Roman"/>
                <a:ea typeface="標楷體"/>
              </a:rPr>
              <a:t>更多例子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971800" y="5638680"/>
          <a:ext cx="3581280" cy="381240"/>
        </p:xfrm>
        <a:graphic>
          <a:graphicData uri="http://schemas.openxmlformats.org/drawingml/2006/table">
            <a:tbl>
              <a:tblPr/>
              <a:tblGrid>
                <a:gridCol w="716040"/>
                <a:gridCol w="716040"/>
                <a:gridCol w="717480"/>
                <a:gridCol w="716040"/>
                <a:gridCol w="715680"/>
              </a:tblGrid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4"/>
                        </a:rPr>
                        <a:t>又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5"/>
                        </a:rPr>
                        <a:t>伸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6"/>
                        </a:rPr>
                        <a:t>缺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7"/>
                        </a:rPr>
                        <a:t>匆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8"/>
                        </a:rPr>
                        <a:t>怏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822960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6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省略原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211788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倉頡碼字首部份最多取二碼，字身部份最多取三碼，連體字最多取四碼。若一個字元碼數超過上述之規定時則予以省略，省略方法分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17320" y="3425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Times New Roman"/>
                <a:ea typeface="標楷體"/>
              </a:rPr>
              <a:t>部分省略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17320" y="4340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Times New Roman"/>
                <a:ea typeface="標楷體"/>
              </a:rPr>
              <a:t>包含省略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2960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部份省略</a:t>
            </a:r>
            <a:r>
              <a:rPr b="0" lang="zh-TW" sz="4400" spc="-1" strike="noStrike">
                <a:solidFill>
                  <a:srgbClr val="e0914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905120"/>
            <a:ext cx="6400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在取碼超過限定字碼碼數時</a:t>
            </a: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字首不多於兩碼、字身不多於三碼，連體字不多於四碼</a:t>
            </a: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，則將中間的字碼予以省略，稱為部份省略原則。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36680" y="32004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09142"/>
                </a:solidFill>
                <a:latin typeface="Times New Roman"/>
                <a:ea typeface="標楷體"/>
              </a:rPr>
              <a:t>說明例子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603600" y="3654360"/>
            <a:ext cx="587520" cy="566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230560" y="46483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09142"/>
                </a:solidFill>
                <a:latin typeface="Times New Roman"/>
                <a:ea typeface="標楷體"/>
              </a:rPr>
              <a:t>更多例子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819520" y="5334120"/>
          <a:ext cx="3581280" cy="380880"/>
        </p:xfrm>
        <a:graphic>
          <a:graphicData uri="http://schemas.openxmlformats.org/drawingml/2006/table">
            <a:tbl>
              <a:tblPr/>
              <a:tblGrid>
                <a:gridCol w="716040"/>
                <a:gridCol w="716040"/>
                <a:gridCol w="717480"/>
                <a:gridCol w="716040"/>
                <a:gridCol w="71568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"/>
                        </a:rPr>
                        <a:t>暉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"/>
                        </a:rPr>
                        <a:t>卻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4"/>
                        </a:rPr>
                        <a:t>濤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5"/>
                        </a:rPr>
                        <a:t>擊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6"/>
                        </a:rPr>
                        <a:t>幹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 flipH="1">
            <a:off x="4356000" y="3789360"/>
            <a:ext cx="1008000" cy="2160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27640" y="3573360"/>
            <a:ext cx="21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35640" y="2924280"/>
            <a:ext cx="28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355932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807f9"/>
                </a:solidFill>
                <a:latin typeface="Arial"/>
              </a:rPr>
              <a:t>由於字首只可以最多取兩個碼，所以省略 “田” 的字形碼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包含省略</a:t>
            </a:r>
            <a:r>
              <a:rPr b="0" lang="zh-TW" sz="4400" spc="-1" strike="noStrike">
                <a:solidFill>
                  <a:srgbClr val="e0914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21337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若字首或字身的尾碼被下列字形三面包含或四面包含，而且超過法定取碼數時，只取外圍的字形碼，而省略尾碼，稱為包含原則。</a:t>
            </a:r>
            <a:r>
              <a:rPr b="0" lang="zh-TW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124080" y="3429000"/>
            <a:ext cx="2971800" cy="1371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084400" y="50292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09142"/>
                </a:solidFill>
                <a:latin typeface="Times New Roman"/>
                <a:ea typeface="標楷體"/>
              </a:rPr>
              <a:t>更多例子：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819520" y="5638680"/>
          <a:ext cx="3581280" cy="381240"/>
        </p:xfrm>
        <a:graphic>
          <a:graphicData uri="http://schemas.openxmlformats.org/drawingml/2006/table">
            <a:tbl>
              <a:tblPr/>
              <a:tblGrid>
                <a:gridCol w="716040"/>
                <a:gridCol w="716040"/>
                <a:gridCol w="717480"/>
                <a:gridCol w="716040"/>
                <a:gridCol w="715680"/>
              </a:tblGrid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"/>
                        </a:rPr>
                        <a:t>夠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"/>
                        </a:rPr>
                        <a:t>摘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4"/>
                        </a:rPr>
                        <a:t>夢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5"/>
                        </a:rPr>
                        <a:t>圖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6"/>
                        </a:rPr>
                        <a:t>齦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9f9fff"/>
                      </a:solidFill>
                    </a:lnL>
                    <a:lnR w="5760">
                      <a:solidFill>
                        <a:srgbClr val="9f9fff"/>
                      </a:solidFill>
                    </a:lnR>
                    <a:lnT w="5760">
                      <a:solidFill>
                        <a:srgbClr val="9f9fff"/>
                      </a:solidFill>
                    </a:lnT>
                    <a:lnB w="5760">
                      <a:solidFill>
                        <a:srgbClr val="9f9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822960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3300"/>
                </a:solidFill>
                <a:latin typeface="Arial"/>
                <a:ea typeface="標楷體"/>
              </a:rPr>
              <a:t>返回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01:57:03Z</dcterms:created>
  <dc:creator>hkied</dc:creator>
  <dc:description/>
  <dc:language>en-US</dc:language>
  <cp:lastModifiedBy>HKIEd</cp:lastModifiedBy>
  <dcterms:modified xsi:type="dcterms:W3CDTF">2005-08-31T05:36:15Z</dcterms:modified>
  <cp:revision>158</cp:revision>
  <dc:subject/>
  <dc:title>簡介倉頡輸入法</dc:title>
</cp:coreProperties>
</file>