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24B-0373-4EC4-B60E-6B022E35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DEF7-43D1-4A43-95A8-6F44A83D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E47-10A8-44B8-9FB4-AF2E6300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FD8-0394-4B47-97E7-2B55AA66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70EA-7EE4-4C22-9D57-06C3AA8F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0728-AFA3-44A1-902B-8E1440B3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B0EA-345D-4BAA-B946-79572616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3338-75D3-40ED-B4D5-32936451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3E40-C55B-49F7-95D5-A75A7149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26ED-7A2F-45FB-8619-2D7C1FAE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EC45-05BF-47BF-A5D2-3A5DCC13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C251-768C-4EF4-9733-7E3A0BC3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D5FE-D405-494C-A031-DF0D90EB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B11A-3564-4DD2-84DB-5DD33E3D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D9BD-9749-4518-9D3D-E1DBA94B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2CA4-CA15-4C8E-9B62-5CAB7C14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A1DB-D383-4C03-B1BC-38CF91D0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6C00-E17D-4279-981A-806A2CC2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919-9694-40E2-AA1A-B015324C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3C20-2515-4BD5-BF72-56A1FDF5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098-6E7F-479A-804E-CBEB5C7D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5A4E-2B36-46CF-846F-B929C9AC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EFD-2BE2-4DD5-8389-AFCD6FCD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EE9-CE88-4AC1-A6A4-469D530A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C870-0A6A-4319-9255-2CE38BEA9080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690A-6565-4E6A-ABD7-4B0B79A7081F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an/lntc.swf" TargetMode="External"/><Relationship Id="rId3" Type="http://schemas.openxmlformats.org/officeDocument/2006/relationships/hyperlink" Target="file:///an/nljmu.swf" TargetMode="External"/><Relationship Id="rId4" Type="http://schemas.openxmlformats.org/officeDocument/2006/relationships/hyperlink" Target="file:///an/ogf.swf" TargetMode="External"/><Relationship Id="rId5" Type="http://schemas.openxmlformats.org/officeDocument/2006/relationships/hyperlink" Target="file:///an/riog.swf" TargetMode="External"/><Relationship Id="rId6" Type="http://schemas.openxmlformats.org/officeDocument/2006/relationships/hyperlink" Target="file:///an/vihi.swf" TargetMode="External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n/db.swf" TargetMode="External"/><Relationship Id="rId2" Type="http://schemas.openxmlformats.org/officeDocument/2006/relationships/hyperlink" Target="file:///an/fqbu.swf" TargetMode="External"/><Relationship Id="rId3" Type="http://schemas.openxmlformats.org/officeDocument/2006/relationships/hyperlink" Target="file:///an/koo.swf" TargetMode="External"/><Relationship Id="rId4" Type="http://schemas.openxmlformats.org/officeDocument/2006/relationships/hyperlink" Target="file:///an/dm.swf" TargetMode="External"/><Relationship Id="rId5" Type="http://schemas.openxmlformats.org/officeDocument/2006/relationships/hyperlink" Target="file:///an/fqq.swf" TargetMode="External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an/nfhxh.swf" TargetMode="External"/><Relationship Id="rId2" Type="http://schemas.openxmlformats.org/officeDocument/2006/relationships/hyperlink" Target="file:///an/vlxh.swf" TargetMode="External"/><Relationship Id="rId3" Type="http://schemas.openxmlformats.org/officeDocument/2006/relationships/hyperlink" Target="file:///an/tqixe.swf" TargetMode="External"/><Relationship Id="rId4" Type="http://schemas.openxmlformats.org/officeDocument/2006/relationships/hyperlink" Target="file:///an/elxl.swf" TargetMode="External"/><Relationship Id="rId5" Type="http://schemas.openxmlformats.org/officeDocument/2006/relationships/hyperlink" Target="file:///an/nxu.swf" TargetMode="External"/><Relationship Id="rId6" Type="http://schemas.openxmlformats.org/officeDocument/2006/relationships/hyperlink" Target="file:///an/vfrxu.swf" TargetMode="External"/><Relationship Id="rId7" Type="http://schemas.openxmlformats.org/officeDocument/2006/relationships/hyperlink" Target="file:///an/ddixp.swf" TargetMode="External"/><Relationship Id="rId8" Type="http://schemas.openxmlformats.org/officeDocument/2006/relationships/hyperlink" Target="file:///an/vtxc.swf" TargetMode="External"/><Relationship Id="rId9" Type="http://schemas.openxmlformats.org/officeDocument/2006/relationships/hyperlink" Target="file:///an/tixf.swf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n/hxhu.swf" TargetMode="External"/><Relationship Id="rId2" Type="http://schemas.openxmlformats.org/officeDocument/2006/relationships/hyperlink" Target="file:///an/rlx.swf" TargetMode="External"/><Relationship Id="rId3" Type="http://schemas.openxmlformats.org/officeDocument/2006/relationships/hyperlink" Target="file:///an/hxle.swf" TargetMode="External"/><Relationship Id="rId4" Type="http://schemas.openxmlformats.org/officeDocument/2006/relationships/hyperlink" Target="file:///an/mbyx.swf" TargetMode="External"/><Relationship Id="rId5" Type="http://schemas.openxmlformats.org/officeDocument/2006/relationships/hyperlink" Target="file:///an/hxyc.swf" TargetMode="External"/><Relationship Id="rId6" Type="http://schemas.openxmlformats.org/officeDocument/2006/relationships/hyperlink" Target="file:///an/nx.swf" TargetMode="External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an/ncymr.swf" TargetMode="External"/><Relationship Id="rId2" Type="http://schemas.openxmlformats.org/officeDocument/2006/relationships/hyperlink" Target="file:///an/omc.swf" TargetMode="External"/><Relationship Id="rId3" Type="http://schemas.openxmlformats.org/officeDocument/2006/relationships/hyperlink" Target="file:///an/ybyhs.swf" TargetMode="External"/><Relationship Id="rId4" Type="http://schemas.openxmlformats.org/officeDocument/2006/relationships/hyperlink" Target="file:///an/mdylm.swf" TargetMode="External"/><Relationship Id="rId5" Type="http://schemas.openxmlformats.org/officeDocument/2006/relationships/hyperlink" Target="file:///an/mbphe.swf" TargetMode="External"/><Relationship Id="rId6" Type="http://schemas.openxmlformats.org/officeDocument/2006/relationships/hyperlink" Target="file:///an/jbrrv.swf" TargetMode="External"/><Relationship Id="rId7" Type="http://schemas.openxmlformats.org/officeDocument/2006/relationships/hyperlink" Target="file:///an/yhhqm.swf" TargetMode="External"/><Relationship Id="rId8" Type="http://schemas.openxmlformats.org/officeDocument/2006/relationships/hyperlink" Target="file:///an/jbnd.swf" TargetMode="External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例外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95%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以上的中文字，都可依照之前的原則取碼，其餘約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5%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的字，若按相同的原則取碼，亦無不可，但考慮到拆碼上的方便，便把這些難以解拆的字碼簡化，這些字稱為例外字，共分為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5000" y="327672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1" action="ppaction://hlinksldjump"/>
              </a:rPr>
              <a:t>複合字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5000" y="38098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2" action="ppaction://hlinksldjump"/>
              </a:rPr>
              <a:t>特殊字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3880" y="432756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3" action="ppaction://hlinksldjump"/>
              </a:rPr>
              <a:t>難字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95760" y="4876920"/>
            <a:ext cx="790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4" action="ppaction://hlinksldjump"/>
              </a:rPr>
              <a:t>特別字首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複合字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8288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為方便取碼，倉頡輸入法中有九個複合字：</a:t>
            </a:r>
            <a:r>
              <a:rPr b="0" lang="zh-TW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not_e1" descr=""/>
          <p:cNvPicPr/>
          <p:nvPr/>
        </p:nvPicPr>
        <p:blipFill>
          <a:blip r:embed="rId1"/>
          <a:stretch/>
        </p:blipFill>
        <p:spPr>
          <a:xfrm>
            <a:off x="3809880" y="2619360"/>
            <a:ext cx="2229120" cy="2104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00200" y="4800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33"/>
                </a:solidFill>
                <a:latin typeface="Times New Roman"/>
                <a:ea typeface="標楷體"/>
              </a:rPr>
              <a:t>不論是單獨或與其他字形組合使用，一律只取其首尾兩碼。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60720" y="54864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更多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76720" y="5943600"/>
          <a:ext cx="3581280" cy="31896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5680"/>
              </a:tblGrid>
              <a:tr h="35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鬨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院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焦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雖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/>
                        </a:rPr>
                        <a:t>幾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特殊字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133720"/>
            <a:ext cx="6019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000" spc="-1" strike="noStrike" u="sng">
                <a:solidFill>
                  <a:srgbClr val="003300"/>
                </a:solidFill>
                <a:uFillTx/>
                <a:latin typeface="Times New Roman"/>
                <a:ea typeface="標楷體"/>
              </a:rPr>
              <a:t>大</a:t>
            </a:r>
            <a:r>
              <a:rPr b="0" i="1" lang="zh-TW" sz="2000" spc="-1" strike="noStrike">
                <a:solidFill>
                  <a:srgbClr val="003300"/>
                </a:solidFill>
                <a:latin typeface="Times New Roman"/>
                <a:ea typeface="標楷體"/>
              </a:rPr>
              <a:t>、</a:t>
            </a:r>
            <a:r>
              <a:rPr b="0" i="1" lang="zh-TW" sz="2000" spc="-1" strike="noStrike" u="sng">
                <a:solidFill>
                  <a:srgbClr val="003300"/>
                </a:solidFill>
                <a:uFillTx/>
                <a:latin typeface="Times New Roman"/>
                <a:ea typeface="標楷體"/>
              </a:rPr>
              <a:t>木</a:t>
            </a:r>
            <a:r>
              <a:rPr b="0" i="1" lang="zh-TW" sz="2000" spc="-1" strike="noStrike">
                <a:solidFill>
                  <a:srgbClr val="003300"/>
                </a:solidFill>
                <a:latin typeface="Times New Roman"/>
                <a:ea typeface="標楷體"/>
              </a:rPr>
              <a:t>、</a:t>
            </a:r>
            <a:r>
              <a:rPr b="0" i="1" lang="zh-TW" sz="2000" spc="-1" strike="noStrike" u="sng">
                <a:solidFill>
                  <a:srgbClr val="003300"/>
                </a:solidFill>
                <a:uFillTx/>
                <a:latin typeface="Times New Roman"/>
                <a:ea typeface="標楷體"/>
              </a:rPr>
              <a:t>火</a:t>
            </a:r>
            <a:r>
              <a:rPr b="0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為特殊字形，當有字形重疊在其上，先取大、木、火的字形，再取其他字形碼。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0600" y="3429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14600" y="4038480"/>
          <a:ext cx="3581280" cy="38124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568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"/>
                        </a:rPr>
                        <a:t>朿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眷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夾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本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拳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難字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575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難字取碼分為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167652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因有些字形筆劃過於繁瑣，不易取碼，為方便取碼，便規定其不易取碼的部份用一個</a:t>
            </a:r>
            <a:r>
              <a:rPr b="0" lang="zh-TW" sz="2000" spc="-1" strike="noStrike">
                <a:solidFill>
                  <a:srgbClr val="660066"/>
                </a:solidFill>
                <a:latin typeface="標楷體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99"/>
                </a:solidFill>
                <a:latin typeface="標楷體"/>
                <a:ea typeface="標楷體"/>
              </a:rPr>
              <a:t>難字鍵（</a:t>
            </a:r>
            <a:r>
              <a:rPr b="0" lang="zh-TW" sz="2000" spc="-1" strike="noStrike">
                <a:solidFill>
                  <a:srgbClr val="000099"/>
                </a:solidFill>
                <a:latin typeface="標楷體"/>
                <a:ea typeface="標楷體"/>
              </a:rPr>
              <a:t>X</a:t>
            </a:r>
            <a:r>
              <a:rPr b="0" lang="zh-TW" sz="2000" spc="-1" strike="noStrike">
                <a:solidFill>
                  <a:srgbClr val="000099"/>
                </a:solidFill>
                <a:latin typeface="標楷體"/>
                <a:ea typeface="標楷體"/>
              </a:rPr>
              <a:t>）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代替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06080" y="312408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標楷體"/>
              </a:rPr>
              <a:t>1.</a:t>
            </a: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標楷體"/>
              </a:rPr>
              <a:t>（首、難、尾）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08440" y="4724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標楷體"/>
              </a:rPr>
              <a:t>2.</a:t>
            </a: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標楷體"/>
              </a:rPr>
              <a:t>（首、難）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733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7777ff"/>
                </a:solidFill>
                <a:latin typeface="Times New Roman"/>
                <a:ea typeface="標楷體"/>
              </a:rPr>
              <a:t>首、尾碼易取，而中間字難取者。</a:t>
            </a:r>
            <a:r>
              <a:rPr b="0" lang="zh-TW" sz="2400" spc="-1" strike="noStrike">
                <a:solidFill>
                  <a:srgbClr val="7777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5334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7777ff"/>
                </a:solidFill>
                <a:latin typeface="Times New Roman"/>
                <a:ea typeface="標楷體"/>
              </a:rPr>
              <a:t>首碼易取，而尾碼難取者。</a:t>
            </a:r>
            <a:r>
              <a:rPr b="0" lang="zh-TW" sz="2400" spc="-1" strike="noStrike">
                <a:solidFill>
                  <a:srgbClr val="7777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2240" y="426708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0" lang="zh-TW" sz="1800" spc="-1" strike="noStrike">
                <a:solidFill>
                  <a:srgbClr val="ff3300"/>
                </a:solidFill>
                <a:latin typeface="Times New Roman"/>
                <a:ea typeface="標楷體"/>
              </a:rPr>
              <a:t> </a:t>
            </a:r>
            <a:r>
              <a:rPr b="0" lang="zh-TW" sz="1800" spc="-1" strike="noStrike">
                <a:solidFill>
                  <a:srgbClr val="ff3300"/>
                </a:solidFill>
                <a:latin typeface="Times New Roman"/>
                <a:ea typeface="標楷體"/>
              </a:rPr>
              <a:t>取碼例子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12240" y="601812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0" lang="zh-TW" sz="1800" spc="-1" strike="noStrike">
                <a:solidFill>
                  <a:srgbClr val="ff3300"/>
                </a:solidFill>
                <a:latin typeface="Times New Roman"/>
                <a:ea typeface="標楷體"/>
              </a:rPr>
              <a:t> </a:t>
            </a:r>
            <a:r>
              <a:rPr b="0" lang="zh-TW" sz="1800" spc="-1" strike="noStrike">
                <a:solidFill>
                  <a:srgbClr val="ff3300"/>
                </a:solidFill>
                <a:latin typeface="Times New Roman"/>
                <a:ea typeface="標楷體"/>
              </a:rPr>
              <a:t>取碼例子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676520" y="2133720"/>
          <a:ext cx="7086600" cy="350496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295280"/>
                <a:gridCol w="1066680"/>
                <a:gridCol w="1219320"/>
                <a:gridCol w="12952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難字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字例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難字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字例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竹難竹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"/>
                        </a:rPr>
                        <a:t>鯓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中難竹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姊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戈難水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羻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中難中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淵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弓難山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龜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口難山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/>
                        </a:rPr>
                        <a:t>繩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戈難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7"/>
                        </a:rPr>
                        <a:t>麓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廿難金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8"/>
                        </a:rPr>
                        <a:t>嫌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戈難火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9"/>
                        </a:rPr>
                        <a:t>薦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a50021"/>
                </a:solidFill>
                <a:latin typeface="標楷體"/>
                <a:ea typeface="標楷體"/>
              </a:rPr>
              <a:t>1.</a:t>
            </a:r>
            <a:r>
              <a:rPr b="0" lang="zh-TW" sz="2800" spc="-1" strike="noStrike">
                <a:solidFill>
                  <a:srgbClr val="a50021"/>
                </a:solidFill>
                <a:latin typeface="標楷體"/>
                <a:ea typeface="標楷體"/>
              </a:rPr>
              <a:t>（首、難、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1924200" y="251460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1905120" y="320040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2"/>
          <a:stretch/>
        </p:blipFill>
        <p:spPr>
          <a:xfrm>
            <a:off x="1905120" y="380988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3"/>
          <a:stretch/>
        </p:blipFill>
        <p:spPr>
          <a:xfrm>
            <a:off x="1905120" y="4419720"/>
            <a:ext cx="514080" cy="51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4"/>
          <a:stretch/>
        </p:blipFill>
        <p:spPr>
          <a:xfrm>
            <a:off x="1905120" y="5105520"/>
            <a:ext cx="514080" cy="514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5"/>
          <a:stretch/>
        </p:blipFill>
        <p:spPr>
          <a:xfrm>
            <a:off x="5486400" y="25146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6"/>
          <a:stretch/>
        </p:blipFill>
        <p:spPr>
          <a:xfrm>
            <a:off x="5486400" y="32004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7"/>
          <a:stretch/>
        </p:blipFill>
        <p:spPr>
          <a:xfrm>
            <a:off x="5486400" y="38098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8"/>
          <a:stretch/>
        </p:blipFill>
        <p:spPr>
          <a:xfrm>
            <a:off x="5486400" y="441972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a50021"/>
                </a:solidFill>
                <a:latin typeface="Arial"/>
                <a:ea typeface="標楷體"/>
              </a:rPr>
              <a:t>2.</a:t>
            </a:r>
            <a:r>
              <a:rPr b="0" lang="zh-TW" sz="2800" spc="-1" strike="noStrike">
                <a:solidFill>
                  <a:srgbClr val="a50021"/>
                </a:solidFill>
                <a:latin typeface="Arial"/>
                <a:ea typeface="標楷體"/>
              </a:rPr>
              <a:t>（首、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828800" y="2133720"/>
          <a:ext cx="6553080" cy="2259000"/>
        </p:xfrm>
        <a:graphic>
          <a:graphicData uri="http://schemas.openxmlformats.org/drawingml/2006/table">
            <a:tbl>
              <a:tblPr/>
              <a:tblGrid>
                <a:gridCol w="985680"/>
                <a:gridCol w="1057320"/>
                <a:gridCol w="1198800"/>
                <a:gridCol w="985680"/>
                <a:gridCol w="1127160"/>
                <a:gridCol w="11984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難字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字例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難字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字例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竹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"/>
                        </a:rPr>
                        <a:t>兒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中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嘯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竹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叟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卜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霽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竹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與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弓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/>
                        </a:rPr>
                        <a:t>卍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2000160" y="25336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2000160" y="31240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2000160" y="38098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5276880" y="25146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5257800" y="31240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2"/>
          <a:stretch/>
        </p:blipFill>
        <p:spPr>
          <a:xfrm>
            <a:off x="5257800" y="38098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676520" y="2362320"/>
          <a:ext cx="7086600" cy="292716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295280"/>
                <a:gridCol w="1066680"/>
                <a:gridCol w="1219320"/>
                <a:gridCol w="12952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特別字首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字例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特別字首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字例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</a:tr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弓金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"/>
                        </a:rPr>
                        <a:t>詹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人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兵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卜月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旁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一木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歷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一月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憂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十月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/>
                        </a:rPr>
                        <a:t>囊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卜竹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7"/>
                        </a:rPr>
                        <a:t>產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十月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8"/>
                        </a:rPr>
                        <a:t>孛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特別字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1752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以下是一些規則而成的字首的字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1981080" y="27622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1981080" y="34290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1981080" y="40384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1981080" y="47242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5486400" y="27432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5486400" y="34290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>
            <a:off x="5505480" y="40384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6"/>
          <a:stretch/>
        </p:blipFill>
        <p:spPr>
          <a:xfrm>
            <a:off x="5562720" y="4667400"/>
            <a:ext cx="514080" cy="514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>
            <a:off x="1212840" y="-143319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>
            <a:off x="1212840" y="-143319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9"/>
          <a:stretch/>
        </p:blipFill>
        <p:spPr>
          <a:xfrm>
            <a:off x="1212840" y="-143319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0"/>
          <a:stretch/>
        </p:blipFill>
        <p:spPr>
          <a:xfrm>
            <a:off x="1212840" y="-143319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1"/>
          <a:stretch/>
        </p:blipFill>
        <p:spPr>
          <a:xfrm>
            <a:off x="1212840" y="-143319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2"/>
          <a:stretch/>
        </p:blipFill>
        <p:spPr>
          <a:xfrm>
            <a:off x="1212840" y="-143319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3"/>
          <a:stretch/>
        </p:blipFill>
        <p:spPr>
          <a:xfrm>
            <a:off x="1212840" y="-143319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4"/>
          <a:stretch/>
        </p:blipFill>
        <p:spPr>
          <a:xfrm>
            <a:off x="1212840" y="-1433196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1:57:03Z</dcterms:created>
  <dc:creator>hkied</dc:creator>
  <dc:description/>
  <dc:language>en-US</dc:language>
  <cp:lastModifiedBy>HKIEd</cp:lastModifiedBy>
  <dcterms:modified xsi:type="dcterms:W3CDTF">2005-08-31T03:35:41Z</dcterms:modified>
  <cp:revision>152</cp:revision>
  <dc:subject/>
  <dc:title>簡介倉頡輸入法</dc:title>
</cp:coreProperties>
</file>