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1A4-34B1-436D-B635-D873541C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67D-6CFA-49FA-A6B2-CC178F06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3D2-0B88-46D4-950E-0478EB55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C7E-7B05-4F1A-BBFA-9E78C27D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0471-C5DF-4356-8C5E-59DD14F1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FD05-E72A-4CCD-8BAA-48546EE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6BBC-FBD6-49A9-B252-E3C98E70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A179-AF27-48C1-9D0C-B1BFD0D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F246-929E-475E-8B83-0F7B0FF3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18B5-E413-46B7-B408-C32827B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1969-CF7D-4E8F-BCD2-DF22EDDD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A5A-70AA-4861-A2D5-C23091BE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0949-510F-4E10-854D-71B729C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7AC9-939F-4452-9D24-1006C6E5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65E1-AFC9-4DAA-A6A0-FE232E2C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C0A0-FE6A-4357-8FBB-EBBEEF99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0FDB-3ECC-4B46-8982-F2371483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3ED-4A6B-43B9-84FB-C3666C30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0E7-BE93-4979-A54A-26FC7E43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182-C558-42F1-BFE0-33882B53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F98-EE21-4333-A72C-0A817254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200-5AE7-41F3-AEE4-E734FCBD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6B7-650C-41C3-AB8F-7F587CA2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566-C0AE-44FC-9BE9-7D508CAA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FBB3-9E1E-4408-AC12-F9DE647B1017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DD87-14AD-404E-BD82-D8964DD4839C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8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只學識倉頡字母和輔助字形，是沒有可能正確取得中文字的字碼。所以要學習以下幾個名詞定義和最基本的取碼概念。</a:t>
            </a:r>
            <a:r>
              <a:rPr b="0" lang="zh-TW" sz="2200" spc="-1" strike="noStrike">
                <a:solidFill>
                  <a:srgbClr val="660000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957400"/>
            <a:ext cx="2895480" cy="28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1" action="ppaction://hlinksldjump"/>
              </a:rPr>
              <a:t>基本字形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2" action="ppaction://hlinksldjump"/>
              </a:rPr>
              <a:t>取碼順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字首字身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連體字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336600"/>
                </a:solidFill>
                <a:latin typeface="標楷體"/>
                <a:ea typeface="標楷體"/>
              </a:rPr>
              <a:t>分體字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中國字的基本字型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2590920"/>
            <a:ext cx="556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連體形         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外內形</a:t>
            </a:r>
            <a:r>
              <a:rPr b="0" lang="zh-TW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3.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並列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4.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上下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762120"/>
            <a:ext cx="2438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a50021"/>
                </a:solidFill>
                <a:latin typeface="Arial"/>
                <a:ea typeface="標楷體"/>
              </a:rPr>
              <a:t>連體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外內形</a:t>
            </a:r>
            <a:r>
              <a:rPr b="0" lang="zh-TW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24080" y="1752480"/>
          <a:ext cx="3621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752480"/>
                    <a:ext cx="362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00400" y="4343400"/>
          <a:ext cx="3618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343400"/>
                    <a:ext cx="361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86000" y="23623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3333"/>
                </a:solidFill>
                <a:latin typeface="Times New Roman"/>
                <a:ea typeface="華康楷書體W5(P)"/>
              </a:rPr>
              <a:t>例：鳥、車、亞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(P)"/>
              </a:rPr>
              <a:t>　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5029200"/>
            <a:ext cx="32004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3333"/>
                </a:solidFill>
                <a:latin typeface="Times New Roman"/>
                <a:ea typeface="華康楷書體W5(P)"/>
              </a:rPr>
              <a:t>例：因、同、間、凶</a:t>
            </a:r>
            <a:r>
              <a:rPr b="0" lang="zh-TW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457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並列形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分為以下三種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)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1371600"/>
          <a:ext cx="251460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371600"/>
                    <a:ext cx="25146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666880" y="3962520"/>
          <a:ext cx="22860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96252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601640" y="3200400"/>
            <a:ext cx="457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上下形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(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分為以下四種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取碼順序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66688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左至右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9084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792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371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倉頡的取碼是根據中國字的基本字形，由左至右、由上至下、由外至內取碼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3996000" cy="102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33920" y="3821040"/>
            <a:ext cx="3311280" cy="108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76720" y="5410080"/>
            <a:ext cx="4114800" cy="1047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411480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上至下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2920" y="558648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8000"/>
                </a:solidFill>
                <a:uFillTx/>
                <a:latin typeface="Times New Roman"/>
                <a:ea typeface="標楷體"/>
              </a:rPr>
              <a:t>由外至內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字首、字身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50804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倉頡輸入法將一個字分為</a:t>
            </a: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首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和</a:t>
            </a: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身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兩部份，用作限制取碼數目，使到每字最多只能取五個碼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2743200"/>
            <a:ext cx="668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343ff"/>
                </a:solidFill>
                <a:latin typeface="Arial"/>
              </a:rPr>
              <a:t>1. </a:t>
            </a:r>
            <a:r>
              <a:rPr b="0" lang="zh-TW" sz="1400" spc="-1" strike="noStrike">
                <a:solidFill>
                  <a:srgbClr val="4343ff"/>
                </a:solidFill>
                <a:latin typeface="Arial"/>
              </a:rPr>
              <a:t>凡字形可以從縱向或橫向一次截然分離者，其「最左側」或「最上方」稱為字首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343ff"/>
                </a:solidFill>
                <a:latin typeface="Arial"/>
              </a:rPr>
              <a:t>2. </a:t>
            </a:r>
            <a:r>
              <a:rPr b="0" lang="zh-TW" sz="1400" spc="-1" strike="noStrike">
                <a:solidFill>
                  <a:srgbClr val="4343ff"/>
                </a:solidFill>
                <a:latin typeface="Arial"/>
              </a:rPr>
              <a:t>凡字首有部份向右方或下方延伸，不能截然劃分成成兩部者，為方便取碼，亦視  為字首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0384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是指字首以外的部份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9360" y="2362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首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9360" y="3581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Times New Roman"/>
                <a:ea typeface="標楷體"/>
              </a:rPr>
              <a:t>字身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5720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666600"/>
                </a:solidFill>
                <a:latin typeface="Times New Roman"/>
                <a:ea typeface="標楷體"/>
              </a:rPr>
              <a:t>次字首、次字身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4981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當一個字的字身可以再分拆為「</a:t>
            </a: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字首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及「</a:t>
            </a:r>
            <a:r>
              <a:rPr b="0" lang="zh-TW" sz="1600" spc="-1" strike="noStrike">
                <a:solidFill>
                  <a:srgbClr val="3333ff"/>
                </a:solidFill>
                <a:latin typeface="Times New Roman"/>
                <a:ea typeface="標楷體"/>
              </a:rPr>
              <a:t>字身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時，則稱為「</a:t>
            </a:r>
            <a:r>
              <a:rPr b="0" lang="zh-TW" sz="1600" spc="-1" strike="noStrike">
                <a:solidFill>
                  <a:srgbClr val="3333ff"/>
                </a:solidFill>
                <a:latin typeface="Times New Roman"/>
                <a:ea typeface="標楷體"/>
              </a:rPr>
              <a:t>次字首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及「</a:t>
            </a:r>
            <a:r>
              <a:rPr b="0" lang="zh-TW" sz="1600" spc="-1" strike="noStrike">
                <a:solidFill>
                  <a:srgbClr val="3333ff"/>
                </a:solidFill>
                <a:latin typeface="Times New Roman"/>
                <a:ea typeface="標楷體"/>
              </a:rPr>
              <a:t>次字身</a:t>
            </a:r>
            <a:r>
              <a:rPr b="0" lang="zh-TW" sz="1600" spc="-1" strike="noStrike">
                <a:solidFill>
                  <a:srgbClr val="336699"/>
                </a:solidFill>
                <a:latin typeface="Times New Roman"/>
                <a:ea typeface="標楷體"/>
              </a:rPr>
              <a:t>」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6480" y="594360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09142"/>
                </a:solidFill>
                <a:latin typeface="Times New Roman"/>
                <a:ea typeface="標楷體"/>
              </a:rPr>
              <a:t>說明例子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38480" y="5943600"/>
            <a:ext cx="574920" cy="514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連體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75248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a50021"/>
                </a:solidFill>
                <a:latin typeface="Times New Roman"/>
                <a:ea typeface="標楷體"/>
              </a:rPr>
              <a:t>連體字是指字體本身的筆劃交連而無法可以切割分開的字。</a:t>
            </a:r>
            <a:r>
              <a:rPr b="0" lang="zh-TW" sz="21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321000"/>
            <a:ext cx="76201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1. </a:t>
            </a: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第一碼為字首，其餘部份為字身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2. </a:t>
            </a: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字身在三碼以內者，依據取碼順序全取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3. </a:t>
            </a:r>
            <a:r>
              <a:rPr b="0" lang="zh-TW" sz="2000" spc="-1" strike="noStrike">
                <a:solidFill>
                  <a:srgbClr val="339933"/>
                </a:solidFill>
                <a:latin typeface="標楷體"/>
                <a:ea typeface="標楷體"/>
              </a:rPr>
              <a:t>字身四碼或以上者，取字身的首、次、尾三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	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所以連體字最多取四碼：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字首一碼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+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字身的首、次、尾三碼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。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	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亦即全字的首、次、三及尾四碼</a:t>
            </a:r>
            <a:r>
              <a:rPr b="0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)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9120" y="2635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09142"/>
                </a:solidFill>
                <a:latin typeface="Times New Roman"/>
                <a:ea typeface="標楷體"/>
              </a:rPr>
              <a:t>取碼通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分體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4176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Times New Roman"/>
                <a:ea typeface="標楷體"/>
              </a:rPr>
              <a:t>凡字體可被分割為字首、字身兩部份的字，稱為分體字。或符合下列條件之一者，亦皆為分體字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819520"/>
            <a:ext cx="8458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取碼數目最多五個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首兩碼或以下，全取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首多於兩碼者，只取首尾兩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身若為連體字，取首、二及尾三個碼，不足三個碼則全取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字身若為分體字，則將字身再分為次字首及次字身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次字首若為單碼者，取次字首一碼，次字身首、尾碼。</a:t>
            </a:r>
            <a:r>
              <a:rPr b="0" lang="zh-TW" sz="2000" spc="-1" strike="noStrike">
                <a:solidFill>
                  <a:srgbClr val="333333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6633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33"/>
                </a:solidFill>
                <a:latin typeface="標楷體"/>
                <a:ea typeface="標楷體"/>
              </a:rPr>
              <a:t>非單碼次字首，則只取次字首的首、尾兩碼及次字身尾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85440" y="266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09142"/>
                </a:solidFill>
                <a:latin typeface="Times New Roman"/>
                <a:ea typeface="標楷體"/>
              </a:rPr>
              <a:t>取碼通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5:41:21Z</dcterms:modified>
  <cp:revision>153</cp:revision>
  <dc:subject/>
  <dc:title>簡介倉頡輸入法</dc:title>
</cp:coreProperties>
</file>