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1F8-BD57-4E07-A3C7-5BB5B15D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40F-7C0B-445D-B1FD-7C44B8B3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CCD-486D-4760-AA72-FBE59000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AE6-F612-46A4-8729-91EEF00B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F871-9CE9-4297-BD14-23723EA0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6AC-3929-4322-990A-9EECD0BB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1F82-746C-4BA9-B24E-CAB88834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E62C-27FC-4577-9365-EEB5EA3F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257A-8BB4-4E24-B122-4BEA825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08B3-77C1-49D7-8C31-63866A33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9DEB-8075-493D-AE6A-E7945035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317-2475-4B11-A87E-D6FD7D1C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432F-CB05-4DDE-B1AC-9EB8A5A0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92EA-680A-49A7-B1F5-7771F39F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71F2-41C0-48E7-8260-A84EE840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2381-777D-4046-A0D4-875FC9C7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C5C2-D259-4F41-8FA3-62C682AD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CB7-A626-4A01-AC60-D474FFB8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DB4-4254-47E9-8EA6-985254A4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486-8E20-4A69-B872-83F4646C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6D7-D91E-4D84-93D5-4D14FC4E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E09-69BD-4CF6-8468-F02AC6F5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FE2-F3E0-4661-A860-45CF0F5E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9A9-916D-4F5B-AE36-689D19B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8E60-6D1F-4B7C-999D-F7BD37C5937F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7E87-9985-49CE-BC1A-17763D0B6B44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an/kn.swf" TargetMode="External"/><Relationship Id="rId3" Type="http://schemas.openxmlformats.org/officeDocument/2006/relationships/hyperlink" Target="file:///an/ma.swf" TargetMode="External"/><Relationship Id="rId4" Type="http://schemas.openxmlformats.org/officeDocument/2006/relationships/hyperlink" Target="file:///an/mig.swf" TargetMode="External"/><Relationship Id="rId5" Type="http://schemas.openxmlformats.org/officeDocument/2006/relationships/hyperlink" Target="file:///an/ng.swf" TargetMode="External"/><Relationship Id="rId6" Type="http://schemas.openxmlformats.org/officeDocument/2006/relationships/hyperlink" Target="file:///an/qpr.swf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an/rvp.swf" TargetMode="External"/><Relationship Id="rId3" Type="http://schemas.openxmlformats.org/officeDocument/2006/relationships/hyperlink" Target="file:///an/shqu.swf" TargetMode="External"/><Relationship Id="rId4" Type="http://schemas.openxmlformats.org/officeDocument/2006/relationships/hyperlink" Target="file:///an/tmbuu.swf" TargetMode="External"/><Relationship Id="rId5" Type="http://schemas.openxmlformats.org/officeDocument/2006/relationships/hyperlink" Target="file:///an/toav.swf" TargetMode="External"/><Relationship Id="rId6" Type="http://schemas.openxmlformats.org/officeDocument/2006/relationships/hyperlink" Target="file:///an/tqm.swf" TargetMode="External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hyperlink" Target="file:///an/nk.swf" TargetMode="External"/><Relationship Id="rId5" Type="http://schemas.openxmlformats.org/officeDocument/2006/relationships/hyperlink" Target="file:///an/olwl.swf" TargetMode="External"/><Relationship Id="rId6" Type="http://schemas.openxmlformats.org/officeDocument/2006/relationships/hyperlink" Target="file:///an/oudk.swf" TargetMode="External"/><Relationship Id="rId7" Type="http://schemas.openxmlformats.org/officeDocument/2006/relationships/hyperlink" Target="file:///an/pkk.swf" TargetMode="External"/><Relationship Id="rId8" Type="http://schemas.openxmlformats.org/officeDocument/2006/relationships/hyperlink" Target="file:///an/plbk.swf" TargetMode="External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an/abjj.swf" TargetMode="External"/><Relationship Id="rId3" Type="http://schemas.openxmlformats.org/officeDocument/2006/relationships/hyperlink" Target="file:///an/crsl.swf" TargetMode="External"/><Relationship Id="rId4" Type="http://schemas.openxmlformats.org/officeDocument/2006/relationships/hyperlink" Target="file:///an/egni.swf" TargetMode="External"/><Relationship Id="rId5" Type="http://schemas.openxmlformats.org/officeDocument/2006/relationships/hyperlink" Target="file:///an/jeq.swf" TargetMode="External"/><Relationship Id="rId6" Type="http://schemas.openxmlformats.org/officeDocument/2006/relationships/hyperlink" Target="file:///an/jjomj.swf" TargetMode="External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an/nnpr.swf" TargetMode="External"/><Relationship Id="rId2" Type="http://schemas.openxmlformats.org/officeDocument/2006/relationships/hyperlink" Target="file:///an/qycb.swf" TargetMode="External"/><Relationship Id="rId3" Type="http://schemas.openxmlformats.org/officeDocument/2006/relationships/hyperlink" Target="file:///an/twln.swf" TargetMode="External"/><Relationship Id="rId4" Type="http://schemas.openxmlformats.org/officeDocument/2006/relationships/hyperlink" Target="file:///an/wryw.swf" TargetMode="External"/><Relationship Id="rId5" Type="http://schemas.openxmlformats.org/officeDocument/2006/relationships/hyperlink" Target="file:///an/yuav.swf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取碼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在暸解了取碼部份和應取碼數後，便可利用倉頡字母和輔助字形來選取字碼 ，以下四個原則說明取碼時應遵守的規則：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124080"/>
            <a:ext cx="4572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1" action="ppaction://hlinksldjump"/>
              </a:rPr>
              <a:t>精簡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2" action="ppaction://hlinksldjump"/>
              </a:rPr>
              <a:t>完整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3" action="ppaction://hlinksldjump"/>
              </a:rPr>
              <a:t>字形特徵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4" action="ppaction://hlinksldjump"/>
              </a:rPr>
              <a:t>省略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438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精簡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97640" y="1828800"/>
            <a:ext cx="102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當一個字有多種拆碼方去的時候</a:t>
            </a: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,</a:t>
            </a: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以字碼最少、最精簡為正確。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4800" y="2819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說明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09840" y="3429000"/>
            <a:ext cx="685800" cy="55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68680" y="464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76400" y="5410080"/>
          <a:ext cx="3581280" cy="45720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九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百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至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丑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拘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211640" y="3429000"/>
            <a:ext cx="1008000" cy="216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357336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292428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299736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807f9"/>
                </a:solidFill>
                <a:latin typeface="Arial"/>
              </a:rPr>
              <a:t>可取碼 “一十一” 或 “一土”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350028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</a:rPr>
              <a:t>由於精簡原則的關係，必須取最少的碼數，所以正確的取碼是“一土”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完整原則</a:t>
            </a:r>
            <a:r>
              <a:rPr b="0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（先繁後簡原則）</a:t>
            </a:r>
            <a:r>
              <a:rPr b="0" lang="zh-TW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3400" y="2306520"/>
            <a:ext cx="8076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當出現多種取碼方式，而它們的字碼數目也是相等，無法用精簡原則判斷時，便取字中較繁複及完整的部件之字形碼，次取較簡單的字碼。</a:t>
            </a:r>
            <a:r>
              <a:rPr b="0" lang="zh-TW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70200" y="32004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說明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70200" y="4952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08360" y="3930480"/>
            <a:ext cx="59364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3200400" y="5562720"/>
          <a:ext cx="3581280" cy="45720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  <a:gridCol w="71604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民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尾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觀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艱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差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00720" y="3900600"/>
            <a:ext cx="1008000" cy="2156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404496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339552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7440" y="346860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807f9"/>
                </a:solidFill>
                <a:latin typeface="Arial"/>
              </a:rPr>
              <a:t>字首可取碼 “手一” 或 “十土”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39718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</a:rPr>
              <a:t>為了符合完整原則，必須先取較繁瑣的字形，所以字首正確取碼是“手一”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52480" y="2895480"/>
          <a:ext cx="6553440" cy="1676520"/>
        </p:xfrm>
        <a:graphic>
          <a:graphicData uri="http://schemas.openxmlformats.org/drawingml/2006/table">
            <a:tbl>
              <a:tblPr/>
              <a:tblGrid>
                <a:gridCol w="1752840"/>
                <a:gridCol w="2373120"/>
                <a:gridCol w="24274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說明例子：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正確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錯誤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原因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避免在轉角處分割字形。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字形特徵原則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219320"/>
            <a:ext cx="63244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取碼時，儘可能不取重疊字形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將兩相接的字形在同一直線上分割取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避免在轉角處分割字形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19810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72200" y="3322800"/>
            <a:ext cx="2057400" cy="79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57400" y="5029200"/>
            <a:ext cx="13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971800" y="5638680"/>
          <a:ext cx="3581280" cy="381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又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伸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7"/>
                        </a:rPr>
                        <a:t>匆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8"/>
                        </a:rPr>
                        <a:t>怏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6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省略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1178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倉頡碼字首部份最多取二碼，字身部份最多取三碼，連體字最多取四碼。若一個字元碼數超過上述之規定時則予以省略，省略方法分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17320" y="3425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標楷體"/>
              </a:rPr>
              <a:t>部分省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17320" y="434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標楷體"/>
              </a:rPr>
              <a:t>包含省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部份省略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90512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在取碼超過限定字碼碼數時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字首不多於兩碼、字身不多於三碼，連體字不多於四碼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，則將中間的字碼予以省略，稱為部份省略原則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36680" y="32004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說明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603600" y="3654360"/>
            <a:ext cx="587520" cy="566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30560" y="464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819520" y="5334120"/>
          <a:ext cx="3581280" cy="38088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暉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卻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濤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擊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幹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H="1">
            <a:off x="4356000" y="3789360"/>
            <a:ext cx="1008000" cy="216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357336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292428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355932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807f9"/>
                </a:solidFill>
                <a:latin typeface="Arial"/>
              </a:rPr>
              <a:t>由於字首只可以最多取兩個碼，所以省略 “田” 的字形碼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包含省略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133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若字首或字身的尾碼被下列字形三面包含或四面包含，而且超過法定取碼數時，只取外圍的字形碼，而省略尾碼，稱為包含原則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4400" y="5029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819520" y="5638680"/>
          <a:ext cx="3581280" cy="381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/>
                        </a:rPr>
                        <a:t>夠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摘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夢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圖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齦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03640" y="3357720"/>
            <a:ext cx="32400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6:46:55Z</dcterms:modified>
  <cp:revision>159</cp:revision>
  <dc:subject/>
  <dc:title>簡介倉頡輸入法</dc:title>
</cp:coreProperties>
</file>