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5F5-58DC-49B8-BF0B-6EFAE785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F7C-F70B-4578-8570-E6E89EE3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8C1-67DB-4987-806A-535C19B8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300-158D-4A15-8A41-02BEE6BD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85DF-CFF7-465C-BB17-2D24219F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5821-6899-4ECF-AC2C-A0536E59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A04E-B9FA-4DC5-B720-6AC74A14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7200-B7B3-4AEE-B8E8-DD91DAD6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34C-24D7-440B-AB61-CFD1DBBD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77B4-F0C7-4138-B1F8-8D5D2C7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FD2E-6F5E-4D6C-B257-CB35D6F2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773-429C-45BF-AAE4-7AE417A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1CD8-1EB9-4200-BBC8-480A08CE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D246-D926-41D9-95F0-FA879FD1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991C-3585-4C53-AABC-36764A2D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CD38-D9C4-48B6-B03B-C457819A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DD05-DB0A-484F-B445-732E5352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67D-934C-4F2D-8966-086636E4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A52-6DF1-4F77-B73D-5189A653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4BA-BD5B-4093-B099-207F7B39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1B2-78C2-48CE-B477-3F34AD39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3A3-72EC-4060-95B4-8792E24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ED8-200C-409C-9B12-195C29BD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43B-833E-4494-B800-1B0A61C6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7C3E-99FB-4FA9-AC55-32871E9EA0DB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2CFA-2F3F-4C91-9BE0-B650B106E92F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n/lntc.swf" TargetMode="External"/><Relationship Id="rId2" Type="http://schemas.openxmlformats.org/officeDocument/2006/relationships/hyperlink" Target="file:///an/nljmu.swf" TargetMode="External"/><Relationship Id="rId3" Type="http://schemas.openxmlformats.org/officeDocument/2006/relationships/hyperlink" Target="file:///an/ogf.swf" TargetMode="External"/><Relationship Id="rId4" Type="http://schemas.openxmlformats.org/officeDocument/2006/relationships/hyperlink" Target="file:///an/riog.swf" TargetMode="External"/><Relationship Id="rId5" Type="http://schemas.openxmlformats.org/officeDocument/2006/relationships/hyperlink" Target="file:///an/vihi.swf" TargetMode="External"/><Relationship Id="rId6" Type="http://schemas.openxmlformats.org/officeDocument/2006/relationships/slide" Target="slide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n/db.swf" TargetMode="External"/><Relationship Id="rId2" Type="http://schemas.openxmlformats.org/officeDocument/2006/relationships/hyperlink" Target="file:///an/fqbu.swf" TargetMode="External"/><Relationship Id="rId3" Type="http://schemas.openxmlformats.org/officeDocument/2006/relationships/hyperlink" Target="file:///an/koo.swf" TargetMode="External"/><Relationship Id="rId4" Type="http://schemas.openxmlformats.org/officeDocument/2006/relationships/hyperlink" Target="file:///an/dm.swf" TargetMode="External"/><Relationship Id="rId5" Type="http://schemas.openxmlformats.org/officeDocument/2006/relationships/hyperlink" Target="file:///an/fqq.swf" TargetMode="External"/><Relationship Id="rId6" Type="http://schemas.openxmlformats.org/officeDocument/2006/relationships/slide" Target="slide1.xm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n/nfhxh.swf" TargetMode="External"/><Relationship Id="rId2" Type="http://schemas.openxmlformats.org/officeDocument/2006/relationships/hyperlink" Target="file:///an/vlxh.swf" TargetMode="External"/><Relationship Id="rId3" Type="http://schemas.openxmlformats.org/officeDocument/2006/relationships/hyperlink" Target="file:///an/tqixe.swf" TargetMode="External"/><Relationship Id="rId4" Type="http://schemas.openxmlformats.org/officeDocument/2006/relationships/hyperlink" Target="file:///an/elxl.swf" TargetMode="External"/><Relationship Id="rId5" Type="http://schemas.openxmlformats.org/officeDocument/2006/relationships/hyperlink" Target="file:///an/nxu.swf" TargetMode="External"/><Relationship Id="rId6" Type="http://schemas.openxmlformats.org/officeDocument/2006/relationships/hyperlink" Target="file:///an/vfrxu.swf" TargetMode="External"/><Relationship Id="rId7" Type="http://schemas.openxmlformats.org/officeDocument/2006/relationships/hyperlink" Target="file:///an/ddixp.swf" TargetMode="External"/><Relationship Id="rId8" Type="http://schemas.openxmlformats.org/officeDocument/2006/relationships/hyperlink" Target="file:///an/vtxc.swf" TargetMode="External"/><Relationship Id="rId9" Type="http://schemas.openxmlformats.org/officeDocument/2006/relationships/hyperlink" Target="file:///an/tixf.swf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slide" Target="slide4.xml"/><Relationship Id="rId2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n/hxhu.swf" TargetMode="External"/><Relationship Id="rId2" Type="http://schemas.openxmlformats.org/officeDocument/2006/relationships/hyperlink" Target="file:///an/rlx.swf" TargetMode="External"/><Relationship Id="rId3" Type="http://schemas.openxmlformats.org/officeDocument/2006/relationships/hyperlink" Target="file:///an/hxle.swf" TargetMode="External"/><Relationship Id="rId4" Type="http://schemas.openxmlformats.org/officeDocument/2006/relationships/hyperlink" Target="file:///an/mbyx.swf" TargetMode="External"/><Relationship Id="rId5" Type="http://schemas.openxmlformats.org/officeDocument/2006/relationships/hyperlink" Target="file:///an/hxyc.swf" TargetMode="External"/><Relationship Id="rId6" Type="http://schemas.openxmlformats.org/officeDocument/2006/relationships/hyperlink" Target="file:///an/nx.swf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" Target="slide4.xml"/><Relationship Id="rId1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" Target="slide1.xml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例外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133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95%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以上的中文字，都可依照之前的原則取碼，其餘約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5%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的字，若按相同的原則取碼，亦無不可，但考慮到拆碼上的方便，便把這些難以解拆的字碼簡化，這些字稱為例外字，共分為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5000" y="327672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1" action="ppaction://hlinksldjump"/>
              </a:rPr>
              <a:t>複合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5000" y="38098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2" action="ppaction://hlinksldjump"/>
              </a:rPr>
              <a:t>特殊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3880" y="432756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3" action="ppaction://hlinksldjump"/>
              </a:rPr>
              <a:t>難字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95760" y="4876920"/>
            <a:ext cx="790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標楷體"/>
                <a:ea typeface="標楷體"/>
                <a:hlinkClick r:id="rId4" action="ppaction://hlinksldjump"/>
              </a:rPr>
              <a:t>特別字首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複合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為方便取碼，倉頡輸入法中有九個複合字：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800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33"/>
                </a:solidFill>
                <a:latin typeface="Times New Roman"/>
                <a:ea typeface="標楷體"/>
              </a:rPr>
              <a:t>不論是單獨或與其他字形組合使用，一律只取其首尾兩碼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0720" y="54864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76720" y="5943600"/>
          <a:ext cx="3581280" cy="31896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5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鬨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院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焦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雖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幾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6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708360" y="2276640"/>
            <a:ext cx="23576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特殊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133720"/>
            <a:ext cx="6019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大</a:t>
            </a:r>
            <a:r>
              <a:rPr b="0" i="1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、</a:t>
            </a: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木</a:t>
            </a:r>
            <a:r>
              <a:rPr b="0" i="1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、</a:t>
            </a: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火</a:t>
            </a:r>
            <a:r>
              <a:rPr b="0" i="1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、</a:t>
            </a: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戈</a:t>
            </a:r>
            <a:r>
              <a:rPr b="0" i="1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、</a:t>
            </a:r>
            <a:r>
              <a:rPr b="0" i="1" lang="zh-TW" sz="2000" spc="-1" strike="noStrike" u="sng">
                <a:solidFill>
                  <a:srgbClr val="003300"/>
                </a:solidFill>
                <a:uFillTx/>
                <a:latin typeface="Times New Roman"/>
                <a:ea typeface="標楷體"/>
              </a:rPr>
              <a:t>七</a:t>
            </a: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為特殊字形，當有字形重疊在其上，先取大、木、火的字形，再取其他字形碼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0600" y="3429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14600" y="4038480"/>
          <a:ext cx="3581280" cy="381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朿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眷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夾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本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拳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6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難字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575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難字取碼分為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6765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因有些字形筆劃過於繁瑣，不易取碼，為方便取碼，便規定其不易取碼的部份用一個</a:t>
            </a: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難字鍵（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X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）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代替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06080" y="312408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（首、難、尾）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08440" y="4724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  <a:ea typeface="標楷體"/>
              </a:rPr>
              <a:t>（首、難）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733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777ff"/>
                </a:solidFill>
                <a:latin typeface="Times New Roman"/>
                <a:ea typeface="標楷體"/>
              </a:rPr>
              <a:t>首、尾碼易取，而中間字難取者。</a:t>
            </a:r>
            <a:r>
              <a:rPr b="0" lang="zh-TW" sz="2400" spc="-1" strike="noStrike">
                <a:solidFill>
                  <a:srgbClr val="777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777ff"/>
                </a:solidFill>
                <a:latin typeface="Times New Roman"/>
                <a:ea typeface="標楷體"/>
              </a:rPr>
              <a:t>首碼易取，而尾碼難取者。</a:t>
            </a:r>
            <a:r>
              <a:rPr b="0" lang="zh-TW" sz="2400" spc="-1" strike="noStrike">
                <a:solidFill>
                  <a:srgbClr val="777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2240" y="4267080"/>
            <a:ext cx="114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 </a:t>
            </a:r>
            <a:r>
              <a:rPr b="0" lang="zh-TW" sz="18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1" action="ppaction://hlinksldjump"/>
              </a:rPr>
              <a:t>取碼例子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12240" y="6018120"/>
            <a:ext cx="114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zh-TW" sz="1800" spc="-1" strike="noStrike">
                <a:solidFill>
                  <a:srgbClr val="ff3300"/>
                </a:solidFill>
                <a:latin typeface="Times New Roman"/>
                <a:ea typeface="標楷體"/>
              </a:rPr>
              <a:t> </a:t>
            </a:r>
            <a:r>
              <a:rPr b="0" lang="zh-TW" sz="18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2" action="ppaction://hlinksldjump"/>
              </a:rPr>
              <a:t>取碼例子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3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676520" y="2133720"/>
          <a:ext cx="7086600" cy="350496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295280"/>
                <a:gridCol w="1066680"/>
                <a:gridCol w="1219320"/>
                <a:gridCol w="1295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鯓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中難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姊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戈難水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羻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中難中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淵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弓難山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龜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口難山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戈難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/>
                        </a:rPr>
                        <a:t>麓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廿難金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/>
                        </a:rPr>
                        <a:t>嫌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戈難火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9"/>
                        </a:rPr>
                        <a:t>薦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a50021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a50021"/>
                </a:solidFill>
                <a:latin typeface="標楷體"/>
                <a:ea typeface="標楷體"/>
              </a:rPr>
              <a:t>（首、難、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1924200" y="251460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1905120" y="320040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1905120" y="380988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3"/>
          <a:stretch/>
        </p:blipFill>
        <p:spPr>
          <a:xfrm>
            <a:off x="1905120" y="4419720"/>
            <a:ext cx="51408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4"/>
          <a:stretch/>
        </p:blipFill>
        <p:spPr>
          <a:xfrm>
            <a:off x="1905120" y="5105520"/>
            <a:ext cx="51408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5"/>
          <a:stretch/>
        </p:blipFill>
        <p:spPr>
          <a:xfrm>
            <a:off x="5486400" y="25146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6"/>
          <a:stretch/>
        </p:blipFill>
        <p:spPr>
          <a:xfrm>
            <a:off x="5486400" y="32004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7"/>
          <a:stretch/>
        </p:blipFill>
        <p:spPr>
          <a:xfrm>
            <a:off x="5486400" y="38098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8"/>
          <a:stretch/>
        </p:blipFill>
        <p:spPr>
          <a:xfrm>
            <a:off x="5486400" y="441972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19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a50021"/>
                </a:solidFill>
                <a:latin typeface="Arial"/>
                <a:ea typeface="標楷體"/>
              </a:rPr>
              <a:t>2.</a:t>
            </a:r>
            <a:r>
              <a:rPr b="0" lang="zh-TW" sz="2800" spc="-1" strike="noStrike">
                <a:solidFill>
                  <a:srgbClr val="a50021"/>
                </a:solidFill>
                <a:latin typeface="Arial"/>
                <a:ea typeface="標楷體"/>
              </a:rPr>
              <a:t>（首、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28800" y="2133720"/>
          <a:ext cx="6553080" cy="2259000"/>
        </p:xfrm>
        <a:graphic>
          <a:graphicData uri="http://schemas.openxmlformats.org/drawingml/2006/table">
            <a:tbl>
              <a:tblPr/>
              <a:tblGrid>
                <a:gridCol w="985680"/>
                <a:gridCol w="1057320"/>
                <a:gridCol w="1198800"/>
                <a:gridCol w="985680"/>
                <a:gridCol w="1127160"/>
                <a:gridCol w="11984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難字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/>
                        </a:rPr>
                        <a:t>兒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中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嘯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叟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卜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霽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竹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與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弓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000160" y="25336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2000160" y="31240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000160" y="38098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5276880" y="25146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5257800" y="31240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5257800" y="38098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13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676520" y="2362320"/>
          <a:ext cx="7086600" cy="292716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295280"/>
                <a:gridCol w="1066680"/>
                <a:gridCol w="1219320"/>
                <a:gridCol w="1295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特別字首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特別字首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ffff"/>
                          </a:solidFill>
                          <a:latin typeface="標楷體"/>
                          <a:ea typeface="標楷體"/>
                        </a:rPr>
                        <a:t>字例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廿十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孽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戈木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麼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一大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壓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一女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蜃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人口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拿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人弓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氧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戈金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魔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尸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翀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特別字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752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以下是一些規則而成的字首的字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1212840" y="-143319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29600" y="63244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ae4828"/>
                </a:solidFill>
                <a:uFillTx/>
                <a:latin typeface="Arial"/>
                <a:ea typeface="標楷體"/>
                <a:hlinkClick r:id="rId9" action="ppaction://hlinksldjump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1979640" y="270972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1979640" y="465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5435640" y="2708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1979640" y="3284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5438880" y="336060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1979640" y="40053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6"/>
          <a:stretch/>
        </p:blipFill>
        <p:spPr>
          <a:xfrm>
            <a:off x="5435640" y="40053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7"/>
          <a:stretch/>
        </p:blipFill>
        <p:spPr>
          <a:xfrm>
            <a:off x="5435640" y="4724280"/>
            <a:ext cx="6490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6:22:37Z</dcterms:modified>
  <cp:revision>154</cp:revision>
  <dc:subject/>
  <dc:title>簡介倉頡輸入法</dc:title>
</cp:coreProperties>
</file>